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C7C-C773-45BD-9D6F-9EF25104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543-B833-45DC-9CD4-BC3DF5BF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E14-96AD-48A0-9E97-84678505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2D2A-41D1-4674-BAEA-F77CA562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2845-3E87-4396-A145-28577A55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0640-F1B4-4713-8AC2-FF8CC170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16E-C6D6-4E3F-B02F-4F416A21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14A0-C8AF-45DD-8ACD-59DB88EC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C77-2A95-4819-A318-F6BE05C6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D574-0127-4DD7-A637-159FC33E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589-6403-42BB-AF55-3B2AF9E9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A839-3C93-4391-9D1A-CF069574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4D8C-9EB3-49EC-A0D5-EC998E5B7A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8A5C-9FAE-4CD2-8930-F6AB8AD5B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0920" y="1116000"/>
            <a:ext cx="4105080" cy="4103640"/>
            <a:chOff x="250920" y="1116000"/>
            <a:chExt cx="4105080" cy="4103640"/>
          </a:xfrm>
        </p:grpSpPr>
        <p:sp>
          <p:nvSpPr>
            <p:cNvPr id="42" name=""/>
            <p:cNvSpPr/>
            <p:nvPr/>
          </p:nvSpPr>
          <p:spPr>
            <a:xfrm>
              <a:off x="250920" y="1116000"/>
              <a:ext cx="4105080" cy="4103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322200" y="1187280"/>
              <a:ext cx="3962160" cy="3960000"/>
              <a:chOff x="322200" y="1187280"/>
              <a:chExt cx="3962160" cy="39600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322200" y="1187280"/>
                <a:ext cx="3962160" cy="3960000"/>
                <a:chOff x="322200" y="1187280"/>
                <a:chExt cx="3962160" cy="3960000"/>
              </a:xfrm>
            </p:grpSpPr>
            <p:grpSp>
              <p:nvGrpSpPr>
                <p:cNvPr id="45" name=""/>
                <p:cNvGrpSpPr/>
                <p:nvPr/>
              </p:nvGrpSpPr>
              <p:grpSpPr>
                <a:xfrm>
                  <a:off x="323640" y="1187280"/>
                  <a:ext cx="3960720" cy="1655280"/>
                  <a:chOff x="323640" y="1187280"/>
                  <a:chExt cx="3960720" cy="16552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2628720" y="1187280"/>
                    <a:ext cx="1655640" cy="1655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23640" y="1187280"/>
                    <a:ext cx="1655640" cy="1655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1152360" y="1978920"/>
                    <a:ext cx="2317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322200" y="3492000"/>
                  <a:ext cx="3960720" cy="1655280"/>
                  <a:chOff x="322200" y="3492000"/>
                  <a:chExt cx="3960720" cy="1655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2627280" y="3492000"/>
                    <a:ext cx="1655640" cy="1655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2200" y="3492000"/>
                    <a:ext cx="1655640" cy="1655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1150920" y="4283640"/>
                    <a:ext cx="2317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" name=""/>
                <p:cNvSpPr/>
                <p:nvPr/>
              </p:nvSpPr>
              <p:spPr>
                <a:xfrm flipV="1">
                  <a:off x="1170000" y="1964520"/>
                  <a:ext cx="0" cy="231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flipV="1">
                  <a:off x="3473280" y="1978920"/>
                  <a:ext cx="0" cy="2317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64920" y="1474560"/>
                <a:ext cx="3313440" cy="3312360"/>
                <a:chOff x="664920" y="1474560"/>
                <a:chExt cx="3313440" cy="3312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664920" y="2626560"/>
                  <a:ext cx="3313440" cy="1007640"/>
                  <a:chOff x="664920" y="2626560"/>
                  <a:chExt cx="3313440" cy="100764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>
                    <a:off x="664920" y="2626560"/>
                    <a:ext cx="1008360" cy="100764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970000" y="2626560"/>
                    <a:ext cx="1008360" cy="100764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1817640" y="1474560"/>
                  <a:ext cx="1008000" cy="3312360"/>
                  <a:chOff x="1817640" y="1474560"/>
                  <a:chExt cx="1008000" cy="331236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16200000">
                    <a:off x="1817640" y="3778920"/>
                    <a:ext cx="1008000" cy="10080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16200000">
                    <a:off x="1817640" y="1474560"/>
                    <a:ext cx="1008000" cy="10080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2" name=""/>
          <p:cNvSpPr/>
          <p:nvPr/>
        </p:nvSpPr>
        <p:spPr>
          <a:xfrm>
            <a:off x="2086920" y="5445000"/>
            <a:ext cx="5055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ometrical Coverage 20’’ =  40% &amp; n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’’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2 n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0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981000"/>
            <a:ext cx="2325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7440" y="523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537372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7800" y="53672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98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9360" y="5223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1125360"/>
            <a:ext cx="4105440" cy="410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538960" y="2025720"/>
            <a:ext cx="2317680" cy="2317680"/>
            <a:chOff x="5538960" y="2025720"/>
            <a:chExt cx="2317680" cy="2317680"/>
          </a:xfrm>
        </p:grpSpPr>
        <p:sp>
          <p:nvSpPr>
            <p:cNvPr id="71" name=""/>
            <p:cNvSpPr/>
            <p:nvPr/>
          </p:nvSpPr>
          <p:spPr>
            <a:xfrm rot="16200000">
              <a:off x="6194520" y="2678760"/>
              <a:ext cx="1007640" cy="10080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38960" y="2025720"/>
              <a:ext cx="2317680" cy="2317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710240" y="1197000"/>
            <a:ext cx="1655640" cy="1655640"/>
            <a:chOff x="4710240" y="1197000"/>
            <a:chExt cx="1655640" cy="1655640"/>
          </a:xfrm>
        </p:grpSpPr>
        <p:sp>
          <p:nvSpPr>
            <p:cNvPr id="74" name=""/>
            <p:cNvSpPr/>
            <p:nvPr/>
          </p:nvSpPr>
          <p:spPr>
            <a:xfrm>
              <a:off x="4710240" y="119700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5033880" y="1520280"/>
              <a:ext cx="1007640" cy="100764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7026120" y="1197000"/>
            <a:ext cx="1655640" cy="1655640"/>
            <a:chOff x="7026120" y="1197000"/>
            <a:chExt cx="1655640" cy="1655640"/>
          </a:xfrm>
        </p:grpSpPr>
        <p:sp>
          <p:nvSpPr>
            <p:cNvPr id="77" name=""/>
            <p:cNvSpPr/>
            <p:nvPr/>
          </p:nvSpPr>
          <p:spPr>
            <a:xfrm>
              <a:off x="7026120" y="119700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6200000">
              <a:off x="7349760" y="1521000"/>
              <a:ext cx="1008000" cy="10080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710240" y="3502080"/>
            <a:ext cx="1655640" cy="1655640"/>
            <a:chOff x="4710240" y="3502080"/>
            <a:chExt cx="1655640" cy="1655640"/>
          </a:xfrm>
        </p:grpSpPr>
        <p:sp>
          <p:nvSpPr>
            <p:cNvPr id="80" name=""/>
            <p:cNvSpPr/>
            <p:nvPr/>
          </p:nvSpPr>
          <p:spPr>
            <a:xfrm>
              <a:off x="4710240" y="350208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5033880" y="3825360"/>
              <a:ext cx="1007640" cy="100764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026120" y="3502080"/>
            <a:ext cx="1655640" cy="1655640"/>
            <a:chOff x="7026120" y="3502080"/>
            <a:chExt cx="1655640" cy="1655640"/>
          </a:xfrm>
        </p:grpSpPr>
        <p:sp>
          <p:nvSpPr>
            <p:cNvPr id="83" name=""/>
            <p:cNvSpPr/>
            <p:nvPr/>
          </p:nvSpPr>
          <p:spPr>
            <a:xfrm>
              <a:off x="7026120" y="350208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7349760" y="3826080"/>
              <a:ext cx="1008000" cy="10080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00F5B-92AF-4188-A3A2-87AB18AE3A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428840" y="974880"/>
            <a:ext cx="6490440" cy="4469400"/>
            <a:chOff x="1428840" y="974880"/>
            <a:chExt cx="6490440" cy="4469400"/>
          </a:xfrm>
        </p:grpSpPr>
        <p:grpSp>
          <p:nvGrpSpPr>
            <p:cNvPr id="86" name=""/>
            <p:cNvGrpSpPr/>
            <p:nvPr/>
          </p:nvGrpSpPr>
          <p:grpSpPr>
            <a:xfrm>
              <a:off x="1444680" y="974880"/>
              <a:ext cx="3579840" cy="1627560"/>
              <a:chOff x="1444680" y="974880"/>
              <a:chExt cx="3579840" cy="162756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369600" y="974880"/>
                <a:ext cx="1654920" cy="1627560"/>
                <a:chOff x="3369600" y="974880"/>
                <a:chExt cx="1654920" cy="162756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3714840" y="1315080"/>
                  <a:ext cx="965520" cy="952560"/>
                  <a:chOff x="3714840" y="1315080"/>
                  <a:chExt cx="965520" cy="9525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 rot="16200000">
                    <a:off x="399060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71484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3369600" y="974880"/>
                  <a:ext cx="689760" cy="680400"/>
                  <a:chOff x="3369600" y="974880"/>
                  <a:chExt cx="689760" cy="68040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336960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6200000">
                    <a:off x="350712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4334760" y="974880"/>
                  <a:ext cx="689760" cy="680400"/>
                  <a:chOff x="4334760" y="974880"/>
                  <a:chExt cx="689760" cy="68040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433476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447192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3369600" y="1922040"/>
                  <a:ext cx="689760" cy="680400"/>
                  <a:chOff x="3369600" y="1922040"/>
                  <a:chExt cx="689760" cy="68040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336960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16200000">
                    <a:off x="350712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4334760" y="1922040"/>
                  <a:ext cx="689760" cy="680400"/>
                  <a:chOff x="4334760" y="1922040"/>
                  <a:chExt cx="689760" cy="68040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433476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16200000">
                    <a:off x="447192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" name=""/>
              <p:cNvGrpSpPr/>
              <p:nvPr/>
            </p:nvGrpSpPr>
            <p:grpSpPr>
              <a:xfrm>
                <a:off x="2406960" y="974880"/>
                <a:ext cx="1654920" cy="1627560"/>
                <a:chOff x="2406960" y="974880"/>
                <a:chExt cx="1654920" cy="1627560"/>
              </a:xfrm>
            </p:grpSpPr>
            <p:grpSp>
              <p:nvGrpSpPr>
                <p:cNvPr id="104" name=""/>
                <p:cNvGrpSpPr/>
                <p:nvPr/>
              </p:nvGrpSpPr>
              <p:grpSpPr>
                <a:xfrm>
                  <a:off x="2752200" y="1315080"/>
                  <a:ext cx="965520" cy="952560"/>
                  <a:chOff x="2752200" y="1315080"/>
                  <a:chExt cx="965520" cy="9525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16200000">
                    <a:off x="302796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275220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2406960" y="974880"/>
                  <a:ext cx="689760" cy="680400"/>
                  <a:chOff x="2406960" y="974880"/>
                  <a:chExt cx="689760" cy="6804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40696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254448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3372120" y="974880"/>
                  <a:ext cx="689760" cy="680400"/>
                  <a:chOff x="3372120" y="974880"/>
                  <a:chExt cx="689760" cy="6804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337212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6200000">
                    <a:off x="350928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2406960" y="1922040"/>
                  <a:ext cx="689760" cy="680400"/>
                  <a:chOff x="2406960" y="1922040"/>
                  <a:chExt cx="689760" cy="6804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240696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16200000">
                    <a:off x="254448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3372120" y="1922040"/>
                  <a:ext cx="689760" cy="680400"/>
                  <a:chOff x="3372120" y="1922040"/>
                  <a:chExt cx="689760" cy="6804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337212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6200000">
                    <a:off x="350928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"/>
              <p:cNvGrpSpPr/>
              <p:nvPr/>
            </p:nvGrpSpPr>
            <p:grpSpPr>
              <a:xfrm>
                <a:off x="1444680" y="974880"/>
                <a:ext cx="1654920" cy="1627560"/>
                <a:chOff x="1444680" y="974880"/>
                <a:chExt cx="1654920" cy="162756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1789920" y="1315080"/>
                  <a:ext cx="965520" cy="952560"/>
                  <a:chOff x="1789920" y="1315080"/>
                  <a:chExt cx="965520" cy="95256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 rot="16200000">
                    <a:off x="206568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178992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1444680" y="974880"/>
                  <a:ext cx="689760" cy="680400"/>
                  <a:chOff x="1444680" y="974880"/>
                  <a:chExt cx="689760" cy="68040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144468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16200000">
                    <a:off x="158220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2409840" y="974880"/>
                  <a:ext cx="689760" cy="680400"/>
                  <a:chOff x="2409840" y="974880"/>
                  <a:chExt cx="689760" cy="68040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240984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rot="16200000">
                    <a:off x="254700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1444680" y="1922040"/>
                  <a:ext cx="689760" cy="680400"/>
                  <a:chOff x="1444680" y="1922040"/>
                  <a:chExt cx="689760" cy="68040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144468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16200000">
                    <a:off x="158220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2409840" y="1922040"/>
                  <a:ext cx="689760" cy="680400"/>
                  <a:chOff x="2409840" y="1922040"/>
                  <a:chExt cx="689760" cy="68040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240984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16200000">
                    <a:off x="254700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5" name=""/>
            <p:cNvGrpSpPr/>
            <p:nvPr/>
          </p:nvGrpSpPr>
          <p:grpSpPr>
            <a:xfrm>
              <a:off x="4340160" y="974880"/>
              <a:ext cx="3579120" cy="1627560"/>
              <a:chOff x="4340160" y="974880"/>
              <a:chExt cx="3579120" cy="162756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264720" y="974880"/>
                <a:ext cx="1654560" cy="1627560"/>
                <a:chOff x="6264720" y="974880"/>
                <a:chExt cx="1654560" cy="162756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6609960" y="1315080"/>
                  <a:ext cx="965520" cy="952560"/>
                  <a:chOff x="6609960" y="1315080"/>
                  <a:chExt cx="965520" cy="95256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rot="16200000">
                    <a:off x="688572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660996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6264720" y="974880"/>
                  <a:ext cx="689760" cy="680400"/>
                  <a:chOff x="6264720" y="974880"/>
                  <a:chExt cx="689760" cy="68040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626472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16200000">
                    <a:off x="640224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7229520" y="974880"/>
                  <a:ext cx="689760" cy="680400"/>
                  <a:chOff x="7229520" y="974880"/>
                  <a:chExt cx="689760" cy="68040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22952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6200000">
                    <a:off x="736668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6264720" y="1922040"/>
                  <a:ext cx="689760" cy="680400"/>
                  <a:chOff x="6264720" y="1922040"/>
                  <a:chExt cx="689760" cy="68040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626472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640224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7229520" y="1922040"/>
                  <a:ext cx="689760" cy="680400"/>
                  <a:chOff x="7229520" y="1922040"/>
                  <a:chExt cx="689760" cy="6804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722952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736668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5302440" y="974880"/>
                <a:ext cx="1654560" cy="1627560"/>
                <a:chOff x="5302440" y="974880"/>
                <a:chExt cx="1654560" cy="162756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5647680" y="1315080"/>
                  <a:ext cx="965520" cy="952560"/>
                  <a:chOff x="5647680" y="1315080"/>
                  <a:chExt cx="965520" cy="9525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16200000">
                    <a:off x="592344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564768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5302440" y="974880"/>
                  <a:ext cx="689760" cy="680400"/>
                  <a:chOff x="5302440" y="974880"/>
                  <a:chExt cx="689760" cy="6804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530244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6200000">
                    <a:off x="543996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267240" y="974880"/>
                  <a:ext cx="689760" cy="680400"/>
                  <a:chOff x="6267240" y="974880"/>
                  <a:chExt cx="689760" cy="6804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626724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6200000">
                    <a:off x="640440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5302440" y="1922040"/>
                  <a:ext cx="689760" cy="680400"/>
                  <a:chOff x="5302440" y="1922040"/>
                  <a:chExt cx="689760" cy="6804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530244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6200000">
                    <a:off x="543996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267240" y="1922040"/>
                  <a:ext cx="689760" cy="680400"/>
                  <a:chOff x="6267240" y="1922040"/>
                  <a:chExt cx="689760" cy="68040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626724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6200000">
                    <a:off x="640440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4340160" y="974880"/>
                <a:ext cx="1654560" cy="1627560"/>
                <a:chOff x="4340160" y="974880"/>
                <a:chExt cx="1654560" cy="162756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4685400" y="1315080"/>
                  <a:ext cx="965520" cy="952560"/>
                  <a:chOff x="4685400" y="1315080"/>
                  <a:chExt cx="965520" cy="9525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16200000">
                    <a:off x="496116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68540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4340160" y="974880"/>
                  <a:ext cx="689760" cy="680400"/>
                  <a:chOff x="4340160" y="974880"/>
                  <a:chExt cx="689760" cy="6804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434016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rot="16200000">
                    <a:off x="447768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304960" y="974880"/>
                  <a:ext cx="689760" cy="680400"/>
                  <a:chOff x="5304960" y="974880"/>
                  <a:chExt cx="689760" cy="68040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30496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rot="16200000">
                    <a:off x="544212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4340160" y="1922040"/>
                  <a:ext cx="689760" cy="680400"/>
                  <a:chOff x="4340160" y="1922040"/>
                  <a:chExt cx="689760" cy="6804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434016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rot="16200000">
                    <a:off x="447768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304960" y="1922040"/>
                  <a:ext cx="689760" cy="680400"/>
                  <a:chOff x="5304960" y="1922040"/>
                  <a:chExt cx="689760" cy="68040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30496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16200000">
                    <a:off x="544212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4" name=""/>
            <p:cNvGrpSpPr/>
            <p:nvPr/>
          </p:nvGrpSpPr>
          <p:grpSpPr>
            <a:xfrm>
              <a:off x="1436760" y="1922400"/>
              <a:ext cx="3579120" cy="1627560"/>
              <a:chOff x="1436760" y="1922400"/>
              <a:chExt cx="3579120" cy="162756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3361320" y="1922400"/>
                <a:ext cx="1654560" cy="1627560"/>
                <a:chOff x="3361320" y="1922400"/>
                <a:chExt cx="1654560" cy="162756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3706560" y="2262600"/>
                  <a:ext cx="965520" cy="952560"/>
                  <a:chOff x="3706560" y="2262600"/>
                  <a:chExt cx="965520" cy="9525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16200000">
                    <a:off x="398232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370656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3361320" y="1922400"/>
                  <a:ext cx="689760" cy="680400"/>
                  <a:chOff x="3361320" y="1922400"/>
                  <a:chExt cx="689760" cy="68040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336132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349884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4326120" y="1922400"/>
                  <a:ext cx="689760" cy="680400"/>
                  <a:chOff x="4326120" y="1922400"/>
                  <a:chExt cx="689760" cy="68040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432612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16200000">
                    <a:off x="446328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3361320" y="2869560"/>
                  <a:ext cx="689760" cy="680400"/>
                  <a:chOff x="3361320" y="2869560"/>
                  <a:chExt cx="689760" cy="68040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36132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16200000">
                    <a:off x="349884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4326120" y="2869560"/>
                  <a:ext cx="689760" cy="680400"/>
                  <a:chOff x="4326120" y="2869560"/>
                  <a:chExt cx="689760" cy="68040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432612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16200000">
                    <a:off x="446328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2399040" y="1922400"/>
                <a:ext cx="1654560" cy="1627560"/>
                <a:chOff x="2399040" y="1922400"/>
                <a:chExt cx="1654560" cy="162756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2744280" y="2262600"/>
                  <a:ext cx="965520" cy="952560"/>
                  <a:chOff x="2744280" y="2262600"/>
                  <a:chExt cx="965520" cy="9525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16200000">
                    <a:off x="302004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74428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2399040" y="1922400"/>
                  <a:ext cx="689760" cy="680400"/>
                  <a:chOff x="2399040" y="1922400"/>
                  <a:chExt cx="689760" cy="68040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239904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6200000">
                    <a:off x="253656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3363840" y="1922400"/>
                  <a:ext cx="689760" cy="680400"/>
                  <a:chOff x="3363840" y="1922400"/>
                  <a:chExt cx="689760" cy="68040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336384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16200000">
                    <a:off x="350100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2399040" y="2869560"/>
                  <a:ext cx="689760" cy="680400"/>
                  <a:chOff x="2399040" y="2869560"/>
                  <a:chExt cx="689760" cy="68040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239904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16200000">
                    <a:off x="253656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3363840" y="2869560"/>
                  <a:ext cx="689760" cy="680400"/>
                  <a:chOff x="3363840" y="2869560"/>
                  <a:chExt cx="689760" cy="6804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336384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rot="16200000">
                    <a:off x="350100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"/>
              <p:cNvGrpSpPr/>
              <p:nvPr/>
            </p:nvGrpSpPr>
            <p:grpSpPr>
              <a:xfrm>
                <a:off x="1436760" y="1922400"/>
                <a:ext cx="1654560" cy="1627560"/>
                <a:chOff x="1436760" y="1922400"/>
                <a:chExt cx="1654560" cy="162756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1782000" y="2262600"/>
                  <a:ext cx="965520" cy="952560"/>
                  <a:chOff x="1782000" y="2262600"/>
                  <a:chExt cx="965520" cy="95256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6200000">
                    <a:off x="205776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178200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1436760" y="1922400"/>
                  <a:ext cx="689760" cy="680400"/>
                  <a:chOff x="1436760" y="1922400"/>
                  <a:chExt cx="689760" cy="6804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143676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200000">
                    <a:off x="157428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2401560" y="1922400"/>
                  <a:ext cx="689760" cy="680400"/>
                  <a:chOff x="2401560" y="1922400"/>
                  <a:chExt cx="689760" cy="6804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240156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6200000">
                    <a:off x="253872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1436760" y="2869560"/>
                  <a:ext cx="689760" cy="680400"/>
                  <a:chOff x="1436760" y="2869560"/>
                  <a:chExt cx="689760" cy="68040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143676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16200000">
                    <a:off x="157428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2401560" y="2869560"/>
                  <a:ext cx="689760" cy="680400"/>
                  <a:chOff x="2401560" y="2869560"/>
                  <a:chExt cx="689760" cy="68040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240156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16200000">
                    <a:off x="253872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3" name=""/>
            <p:cNvGrpSpPr/>
            <p:nvPr/>
          </p:nvGrpSpPr>
          <p:grpSpPr>
            <a:xfrm>
              <a:off x="4332240" y="1922400"/>
              <a:ext cx="3579840" cy="1627560"/>
              <a:chOff x="4332240" y="1922400"/>
              <a:chExt cx="3579840" cy="162756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257160" y="1922400"/>
                <a:ext cx="1654920" cy="1627560"/>
                <a:chOff x="6257160" y="1922400"/>
                <a:chExt cx="1654920" cy="1627560"/>
              </a:xfrm>
            </p:grpSpPr>
            <p:grpSp>
              <p:nvGrpSpPr>
                <p:cNvPr id="235" name=""/>
                <p:cNvGrpSpPr/>
                <p:nvPr/>
              </p:nvGrpSpPr>
              <p:grpSpPr>
                <a:xfrm>
                  <a:off x="6602400" y="2262600"/>
                  <a:ext cx="965520" cy="952560"/>
                  <a:chOff x="6602400" y="2262600"/>
                  <a:chExt cx="965520" cy="95256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16200000">
                    <a:off x="687816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660240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6257160" y="1922400"/>
                  <a:ext cx="689760" cy="680400"/>
                  <a:chOff x="6257160" y="1922400"/>
                  <a:chExt cx="689760" cy="68040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625716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6200000">
                    <a:off x="639468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222320" y="1922400"/>
                  <a:ext cx="689760" cy="680400"/>
                  <a:chOff x="7222320" y="1922400"/>
                  <a:chExt cx="689760" cy="6804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722232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16200000">
                    <a:off x="735948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6257160" y="2869560"/>
                  <a:ext cx="689760" cy="680400"/>
                  <a:chOff x="6257160" y="2869560"/>
                  <a:chExt cx="689760" cy="68040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625716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16200000">
                    <a:off x="639468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7222320" y="2869560"/>
                  <a:ext cx="689760" cy="680400"/>
                  <a:chOff x="7222320" y="2869560"/>
                  <a:chExt cx="689760" cy="6804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722232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16200000">
                    <a:off x="735948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"/>
              <p:cNvGrpSpPr/>
              <p:nvPr/>
            </p:nvGrpSpPr>
            <p:grpSpPr>
              <a:xfrm>
                <a:off x="5294520" y="1922400"/>
                <a:ext cx="1654920" cy="1627560"/>
                <a:chOff x="5294520" y="1922400"/>
                <a:chExt cx="1654920" cy="162756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5639760" y="2262600"/>
                  <a:ext cx="965520" cy="952560"/>
                  <a:chOff x="5639760" y="2262600"/>
                  <a:chExt cx="965520" cy="95256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rot="16200000">
                    <a:off x="591552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63976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5294520" y="1922400"/>
                  <a:ext cx="689760" cy="680400"/>
                  <a:chOff x="5294520" y="1922400"/>
                  <a:chExt cx="689760" cy="6804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529452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6200000">
                    <a:off x="543204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6259680" y="1922400"/>
                  <a:ext cx="689760" cy="680400"/>
                  <a:chOff x="6259680" y="1922400"/>
                  <a:chExt cx="689760" cy="68040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625968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16200000">
                    <a:off x="639684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5294520" y="2869560"/>
                  <a:ext cx="689760" cy="680400"/>
                  <a:chOff x="5294520" y="2869560"/>
                  <a:chExt cx="689760" cy="6804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29452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16200000">
                    <a:off x="543204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6259680" y="2869560"/>
                  <a:ext cx="689760" cy="680400"/>
                  <a:chOff x="6259680" y="2869560"/>
                  <a:chExt cx="689760" cy="68040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625968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rot="16200000">
                    <a:off x="639684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6" name=""/>
              <p:cNvGrpSpPr/>
              <p:nvPr/>
            </p:nvGrpSpPr>
            <p:grpSpPr>
              <a:xfrm>
                <a:off x="4332240" y="1922400"/>
                <a:ext cx="1654920" cy="1627560"/>
                <a:chOff x="4332240" y="1922400"/>
                <a:chExt cx="1654920" cy="162756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4677480" y="2262600"/>
                  <a:ext cx="965520" cy="952560"/>
                  <a:chOff x="4677480" y="2262600"/>
                  <a:chExt cx="965520" cy="95256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rot="16200000">
                    <a:off x="495324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467748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4332240" y="1922400"/>
                  <a:ext cx="689760" cy="680400"/>
                  <a:chOff x="4332240" y="1922400"/>
                  <a:chExt cx="689760" cy="68040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433224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rot="16200000">
                    <a:off x="446976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5297400" y="1922400"/>
                  <a:ext cx="689760" cy="680400"/>
                  <a:chOff x="5297400" y="1922400"/>
                  <a:chExt cx="689760" cy="68040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529740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16200000">
                    <a:off x="543456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4332240" y="2869560"/>
                  <a:ext cx="689760" cy="680400"/>
                  <a:chOff x="4332240" y="2869560"/>
                  <a:chExt cx="689760" cy="6804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433224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rot="16200000">
                    <a:off x="446976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5297400" y="2869560"/>
                  <a:ext cx="689760" cy="680400"/>
                  <a:chOff x="5297400" y="2869560"/>
                  <a:chExt cx="689760" cy="68040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529740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rot="16200000">
                    <a:off x="543456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2" name=""/>
            <p:cNvGrpSpPr/>
            <p:nvPr/>
          </p:nvGrpSpPr>
          <p:grpSpPr>
            <a:xfrm>
              <a:off x="1436760" y="2868840"/>
              <a:ext cx="3579120" cy="1627560"/>
              <a:chOff x="1436760" y="2868840"/>
              <a:chExt cx="3579120" cy="162756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3361320" y="2868840"/>
                <a:ext cx="1654560" cy="1627560"/>
                <a:chOff x="3361320" y="2868840"/>
                <a:chExt cx="1654560" cy="1627560"/>
              </a:xfrm>
            </p:grpSpPr>
            <p:grpSp>
              <p:nvGrpSpPr>
                <p:cNvPr id="284" name=""/>
                <p:cNvGrpSpPr/>
                <p:nvPr/>
              </p:nvGrpSpPr>
              <p:grpSpPr>
                <a:xfrm>
                  <a:off x="3706560" y="3209040"/>
                  <a:ext cx="965520" cy="952560"/>
                  <a:chOff x="3706560" y="3209040"/>
                  <a:chExt cx="965520" cy="9525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rot="16200000">
                    <a:off x="398232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70656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3361320" y="2868840"/>
                  <a:ext cx="689760" cy="680400"/>
                  <a:chOff x="3361320" y="2868840"/>
                  <a:chExt cx="689760" cy="68040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336132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rot="16200000">
                    <a:off x="349884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4326120" y="2868840"/>
                  <a:ext cx="689760" cy="680400"/>
                  <a:chOff x="4326120" y="2868840"/>
                  <a:chExt cx="689760" cy="68040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2612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446328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361320" y="3816000"/>
                  <a:ext cx="689760" cy="680400"/>
                  <a:chOff x="3361320" y="3816000"/>
                  <a:chExt cx="689760" cy="6804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>
                    <a:off x="336132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6200000">
                    <a:off x="349884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4326120" y="3816000"/>
                  <a:ext cx="689760" cy="680400"/>
                  <a:chOff x="4326120" y="3816000"/>
                  <a:chExt cx="689760" cy="68040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432612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6200000">
                    <a:off x="446328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9" name=""/>
              <p:cNvGrpSpPr/>
              <p:nvPr/>
            </p:nvGrpSpPr>
            <p:grpSpPr>
              <a:xfrm>
                <a:off x="2399040" y="2868840"/>
                <a:ext cx="1654560" cy="1627560"/>
                <a:chOff x="2399040" y="2868840"/>
                <a:chExt cx="1654560" cy="162756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2744280" y="3209040"/>
                  <a:ext cx="965520" cy="952560"/>
                  <a:chOff x="2744280" y="3209040"/>
                  <a:chExt cx="965520" cy="9525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rot="16200000">
                    <a:off x="302004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74428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2399040" y="2868840"/>
                  <a:ext cx="689760" cy="680400"/>
                  <a:chOff x="2399040" y="2868840"/>
                  <a:chExt cx="689760" cy="6804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239904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rot="16200000">
                    <a:off x="253656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3363840" y="2868840"/>
                  <a:ext cx="689760" cy="680400"/>
                  <a:chOff x="3363840" y="2868840"/>
                  <a:chExt cx="689760" cy="6804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336384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16200000">
                    <a:off x="350100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2399040" y="3816000"/>
                  <a:ext cx="689760" cy="680400"/>
                  <a:chOff x="2399040" y="3816000"/>
                  <a:chExt cx="689760" cy="68040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239904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16200000">
                    <a:off x="253656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3363840" y="3816000"/>
                  <a:ext cx="689760" cy="680400"/>
                  <a:chOff x="3363840" y="3816000"/>
                  <a:chExt cx="689760" cy="68040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336384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16200000">
                    <a:off x="350100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5" name=""/>
              <p:cNvGrpSpPr/>
              <p:nvPr/>
            </p:nvGrpSpPr>
            <p:grpSpPr>
              <a:xfrm>
                <a:off x="1436760" y="2868840"/>
                <a:ext cx="1654560" cy="1627560"/>
                <a:chOff x="1436760" y="2868840"/>
                <a:chExt cx="1654560" cy="162756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1782000" y="3209040"/>
                  <a:ext cx="965520" cy="952560"/>
                  <a:chOff x="1782000" y="3209040"/>
                  <a:chExt cx="965520" cy="9525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16200000">
                    <a:off x="205776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178200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1436760" y="2868840"/>
                  <a:ext cx="689760" cy="680400"/>
                  <a:chOff x="1436760" y="2868840"/>
                  <a:chExt cx="689760" cy="68040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143676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rot="16200000">
                    <a:off x="157428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2401560" y="2868840"/>
                  <a:ext cx="689760" cy="680400"/>
                  <a:chOff x="2401560" y="2868840"/>
                  <a:chExt cx="689760" cy="68040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240156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rot="16200000">
                    <a:off x="253872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1436760" y="3816000"/>
                  <a:ext cx="689760" cy="680400"/>
                  <a:chOff x="1436760" y="3816000"/>
                  <a:chExt cx="689760" cy="68040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143676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rot="16200000">
                    <a:off x="157428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2401560" y="3816000"/>
                  <a:ext cx="689760" cy="680400"/>
                  <a:chOff x="2401560" y="3816000"/>
                  <a:chExt cx="689760" cy="6804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240156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rot="16200000">
                    <a:off x="253872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1" name=""/>
            <p:cNvGrpSpPr/>
            <p:nvPr/>
          </p:nvGrpSpPr>
          <p:grpSpPr>
            <a:xfrm>
              <a:off x="4332240" y="2868840"/>
              <a:ext cx="3579840" cy="1627560"/>
              <a:chOff x="4332240" y="2868840"/>
              <a:chExt cx="3579840" cy="162756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6257160" y="2868840"/>
                <a:ext cx="1654920" cy="1627560"/>
                <a:chOff x="6257160" y="2868840"/>
                <a:chExt cx="1654920" cy="1627560"/>
              </a:xfrm>
            </p:grpSpPr>
            <p:grpSp>
              <p:nvGrpSpPr>
                <p:cNvPr id="333" name=""/>
                <p:cNvGrpSpPr/>
                <p:nvPr/>
              </p:nvGrpSpPr>
              <p:grpSpPr>
                <a:xfrm>
                  <a:off x="6602400" y="3209040"/>
                  <a:ext cx="965520" cy="952560"/>
                  <a:chOff x="6602400" y="3209040"/>
                  <a:chExt cx="965520" cy="95256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rot="16200000">
                    <a:off x="687816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60240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6257160" y="2868840"/>
                  <a:ext cx="689760" cy="680400"/>
                  <a:chOff x="6257160" y="2868840"/>
                  <a:chExt cx="689760" cy="68040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625716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rot="16200000">
                    <a:off x="639468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7222320" y="2868840"/>
                  <a:ext cx="689760" cy="680400"/>
                  <a:chOff x="7222320" y="2868840"/>
                  <a:chExt cx="689760" cy="68040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722232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16200000">
                    <a:off x="735948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6257160" y="3816000"/>
                  <a:ext cx="689760" cy="680400"/>
                  <a:chOff x="6257160" y="3816000"/>
                  <a:chExt cx="689760" cy="68040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625716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16200000">
                    <a:off x="639468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222320" y="3816000"/>
                  <a:ext cx="689760" cy="680400"/>
                  <a:chOff x="7222320" y="3816000"/>
                  <a:chExt cx="689760" cy="68040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22232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rot="16200000">
                    <a:off x="735948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8" name=""/>
              <p:cNvGrpSpPr/>
              <p:nvPr/>
            </p:nvGrpSpPr>
            <p:grpSpPr>
              <a:xfrm>
                <a:off x="5294520" y="2868840"/>
                <a:ext cx="1654920" cy="1627560"/>
                <a:chOff x="5294520" y="2868840"/>
                <a:chExt cx="1654920" cy="162756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5639760" y="3209040"/>
                  <a:ext cx="965520" cy="952560"/>
                  <a:chOff x="5639760" y="3209040"/>
                  <a:chExt cx="965520" cy="95256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rot="16200000">
                    <a:off x="591552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63976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5294520" y="2868840"/>
                  <a:ext cx="689760" cy="680400"/>
                  <a:chOff x="5294520" y="2868840"/>
                  <a:chExt cx="689760" cy="68040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529452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16200000">
                    <a:off x="543204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6259680" y="2868840"/>
                  <a:ext cx="689760" cy="680400"/>
                  <a:chOff x="6259680" y="2868840"/>
                  <a:chExt cx="689760" cy="68040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625968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6200000">
                    <a:off x="639684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5294520" y="3816000"/>
                  <a:ext cx="689760" cy="680400"/>
                  <a:chOff x="5294520" y="3816000"/>
                  <a:chExt cx="689760" cy="6804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529452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6200000">
                    <a:off x="543204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6259680" y="3816000"/>
                  <a:ext cx="689760" cy="680400"/>
                  <a:chOff x="6259680" y="3816000"/>
                  <a:chExt cx="689760" cy="68040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625968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200000">
                    <a:off x="639684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4" name=""/>
              <p:cNvGrpSpPr/>
              <p:nvPr/>
            </p:nvGrpSpPr>
            <p:grpSpPr>
              <a:xfrm>
                <a:off x="4332240" y="2868840"/>
                <a:ext cx="1654920" cy="1627560"/>
                <a:chOff x="4332240" y="2868840"/>
                <a:chExt cx="1654920" cy="1627560"/>
              </a:xfrm>
            </p:grpSpPr>
            <p:grpSp>
              <p:nvGrpSpPr>
                <p:cNvPr id="365" name=""/>
                <p:cNvGrpSpPr/>
                <p:nvPr/>
              </p:nvGrpSpPr>
              <p:grpSpPr>
                <a:xfrm>
                  <a:off x="4677480" y="3209040"/>
                  <a:ext cx="965520" cy="952560"/>
                  <a:chOff x="4677480" y="3209040"/>
                  <a:chExt cx="965520" cy="9525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rot="16200000">
                    <a:off x="495324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467748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4332240" y="2868840"/>
                  <a:ext cx="689760" cy="680400"/>
                  <a:chOff x="4332240" y="2868840"/>
                  <a:chExt cx="689760" cy="6804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433224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rot="16200000">
                    <a:off x="446976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5297400" y="2868840"/>
                  <a:ext cx="689760" cy="680400"/>
                  <a:chOff x="5297400" y="2868840"/>
                  <a:chExt cx="689760" cy="68040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529740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rot="16200000">
                    <a:off x="543456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4332240" y="3816000"/>
                  <a:ext cx="689760" cy="680400"/>
                  <a:chOff x="4332240" y="3816000"/>
                  <a:chExt cx="689760" cy="68040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433224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rot="16200000">
                    <a:off x="446976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5297400" y="3816000"/>
                  <a:ext cx="689760" cy="680400"/>
                  <a:chOff x="5297400" y="3816000"/>
                  <a:chExt cx="689760" cy="68040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529740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rot="16200000">
                    <a:off x="543456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0" name=""/>
            <p:cNvGrpSpPr/>
            <p:nvPr/>
          </p:nvGrpSpPr>
          <p:grpSpPr>
            <a:xfrm>
              <a:off x="1428840" y="3816720"/>
              <a:ext cx="3579840" cy="1627560"/>
              <a:chOff x="1428840" y="3816720"/>
              <a:chExt cx="3579840" cy="162756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3353760" y="3816720"/>
                <a:ext cx="1654920" cy="1627560"/>
                <a:chOff x="3353760" y="3816720"/>
                <a:chExt cx="1654920" cy="162756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3699000" y="4156920"/>
                  <a:ext cx="965520" cy="952560"/>
                  <a:chOff x="3699000" y="4156920"/>
                  <a:chExt cx="965520" cy="9525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16200000">
                    <a:off x="397476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69900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353760" y="3816720"/>
                  <a:ext cx="689760" cy="680400"/>
                  <a:chOff x="3353760" y="3816720"/>
                  <a:chExt cx="689760" cy="6804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335376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349128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4318920" y="3816720"/>
                  <a:ext cx="689760" cy="680400"/>
                  <a:chOff x="4318920" y="3816720"/>
                  <a:chExt cx="689760" cy="68040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431892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445608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3353760" y="4763880"/>
                  <a:ext cx="689760" cy="680400"/>
                  <a:chOff x="3353760" y="4763880"/>
                  <a:chExt cx="689760" cy="68040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335376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rot="16200000">
                    <a:off x="349128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4318920" y="4763880"/>
                  <a:ext cx="689760" cy="680400"/>
                  <a:chOff x="4318920" y="4763880"/>
                  <a:chExt cx="689760" cy="6804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431892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rot="16200000">
                    <a:off x="445608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7" name=""/>
              <p:cNvGrpSpPr/>
              <p:nvPr/>
            </p:nvGrpSpPr>
            <p:grpSpPr>
              <a:xfrm>
                <a:off x="2391120" y="3816720"/>
                <a:ext cx="1654920" cy="1627560"/>
                <a:chOff x="2391120" y="3816720"/>
                <a:chExt cx="1654920" cy="1627560"/>
              </a:xfrm>
            </p:grpSpPr>
            <p:grpSp>
              <p:nvGrpSpPr>
                <p:cNvPr id="398" name=""/>
                <p:cNvGrpSpPr/>
                <p:nvPr/>
              </p:nvGrpSpPr>
              <p:grpSpPr>
                <a:xfrm>
                  <a:off x="2736360" y="4156920"/>
                  <a:ext cx="965520" cy="952560"/>
                  <a:chOff x="2736360" y="4156920"/>
                  <a:chExt cx="965520" cy="95256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rot="16200000">
                    <a:off x="301212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73636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2391120" y="3816720"/>
                  <a:ext cx="689760" cy="680400"/>
                  <a:chOff x="2391120" y="3816720"/>
                  <a:chExt cx="689760" cy="68040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239112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16200000">
                    <a:off x="252864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3356280" y="3816720"/>
                  <a:ext cx="689760" cy="680400"/>
                  <a:chOff x="3356280" y="3816720"/>
                  <a:chExt cx="689760" cy="6804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335628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16200000">
                    <a:off x="349344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2391120" y="4763880"/>
                  <a:ext cx="689760" cy="680400"/>
                  <a:chOff x="2391120" y="4763880"/>
                  <a:chExt cx="689760" cy="68040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239112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16200000">
                    <a:off x="252864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3356280" y="4763880"/>
                  <a:ext cx="689760" cy="680400"/>
                  <a:chOff x="3356280" y="4763880"/>
                  <a:chExt cx="689760" cy="68040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335628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6200000">
                    <a:off x="349344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1428840" y="3816720"/>
                <a:ext cx="1654920" cy="1627560"/>
                <a:chOff x="1428840" y="3816720"/>
                <a:chExt cx="1654920" cy="162756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1774080" y="4156920"/>
                  <a:ext cx="965520" cy="952560"/>
                  <a:chOff x="1774080" y="4156920"/>
                  <a:chExt cx="965520" cy="95256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rot="16200000">
                    <a:off x="204984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77408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1428840" y="3816720"/>
                  <a:ext cx="689760" cy="680400"/>
                  <a:chOff x="1428840" y="3816720"/>
                  <a:chExt cx="689760" cy="68040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142884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rot="16200000">
                    <a:off x="156636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2394000" y="3816720"/>
                  <a:ext cx="689760" cy="680400"/>
                  <a:chOff x="2394000" y="3816720"/>
                  <a:chExt cx="689760" cy="68040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239400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16200000">
                    <a:off x="253116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428840" y="4763880"/>
                  <a:ext cx="689760" cy="680400"/>
                  <a:chOff x="1428840" y="4763880"/>
                  <a:chExt cx="689760" cy="6804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142884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rot="16200000">
                    <a:off x="156636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2394000" y="4763880"/>
                  <a:ext cx="689760" cy="680400"/>
                  <a:chOff x="2394000" y="4763880"/>
                  <a:chExt cx="689760" cy="68040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239400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rot="16200000">
                    <a:off x="253116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29" name=""/>
            <p:cNvGrpSpPr/>
            <p:nvPr/>
          </p:nvGrpSpPr>
          <p:grpSpPr>
            <a:xfrm>
              <a:off x="4324320" y="3816720"/>
              <a:ext cx="3579120" cy="1627560"/>
              <a:chOff x="4324320" y="3816720"/>
              <a:chExt cx="3579120" cy="162756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6248880" y="3816720"/>
                <a:ext cx="1654560" cy="1627560"/>
                <a:chOff x="6248880" y="3816720"/>
                <a:chExt cx="1654560" cy="1627560"/>
              </a:xfrm>
            </p:grpSpPr>
            <p:grpSp>
              <p:nvGrpSpPr>
                <p:cNvPr id="431" name=""/>
                <p:cNvGrpSpPr/>
                <p:nvPr/>
              </p:nvGrpSpPr>
              <p:grpSpPr>
                <a:xfrm>
                  <a:off x="6594120" y="4156920"/>
                  <a:ext cx="965520" cy="952560"/>
                  <a:chOff x="6594120" y="4156920"/>
                  <a:chExt cx="965520" cy="95256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16200000">
                    <a:off x="686988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59412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248880" y="3816720"/>
                  <a:ext cx="689760" cy="680400"/>
                  <a:chOff x="6248880" y="3816720"/>
                  <a:chExt cx="689760" cy="68040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624888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rot="16200000">
                    <a:off x="638640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7213680" y="3816720"/>
                  <a:ext cx="689760" cy="680400"/>
                  <a:chOff x="7213680" y="3816720"/>
                  <a:chExt cx="689760" cy="68040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721368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rot="16200000">
                    <a:off x="735084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6248880" y="4763880"/>
                  <a:ext cx="689760" cy="680400"/>
                  <a:chOff x="6248880" y="4763880"/>
                  <a:chExt cx="689760" cy="68040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624888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rot="16200000">
                    <a:off x="638640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7213680" y="4763880"/>
                  <a:ext cx="689760" cy="680400"/>
                  <a:chOff x="7213680" y="4763880"/>
                  <a:chExt cx="689760" cy="6804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721368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rot="16200000">
                    <a:off x="735084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5286600" y="3816720"/>
                <a:ext cx="1654560" cy="1627560"/>
                <a:chOff x="5286600" y="3816720"/>
                <a:chExt cx="1654560" cy="1627560"/>
              </a:xfrm>
            </p:grpSpPr>
            <p:grpSp>
              <p:nvGrpSpPr>
                <p:cNvPr id="447" name=""/>
                <p:cNvGrpSpPr/>
                <p:nvPr/>
              </p:nvGrpSpPr>
              <p:grpSpPr>
                <a:xfrm>
                  <a:off x="5631840" y="4156920"/>
                  <a:ext cx="965520" cy="952560"/>
                  <a:chOff x="5631840" y="4156920"/>
                  <a:chExt cx="965520" cy="95256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rot="16200000">
                    <a:off x="590760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63184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5286600" y="3816720"/>
                  <a:ext cx="689760" cy="680400"/>
                  <a:chOff x="5286600" y="3816720"/>
                  <a:chExt cx="689760" cy="68040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528660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rot="16200000">
                    <a:off x="542412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6251400" y="3816720"/>
                  <a:ext cx="689760" cy="680400"/>
                  <a:chOff x="6251400" y="3816720"/>
                  <a:chExt cx="689760" cy="68040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625140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rot="16200000">
                    <a:off x="638856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5286600" y="4763880"/>
                  <a:ext cx="689760" cy="680400"/>
                  <a:chOff x="5286600" y="4763880"/>
                  <a:chExt cx="689760" cy="68040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528660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16200000">
                    <a:off x="542412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6251400" y="4763880"/>
                  <a:ext cx="689760" cy="680400"/>
                  <a:chOff x="6251400" y="4763880"/>
                  <a:chExt cx="689760" cy="68040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625140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rot="16200000">
                    <a:off x="638856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"/>
              <p:cNvGrpSpPr/>
              <p:nvPr/>
            </p:nvGrpSpPr>
            <p:grpSpPr>
              <a:xfrm>
                <a:off x="4324320" y="3816720"/>
                <a:ext cx="1654560" cy="1627560"/>
                <a:chOff x="4324320" y="3816720"/>
                <a:chExt cx="1654560" cy="1627560"/>
              </a:xfrm>
            </p:grpSpPr>
            <p:grpSp>
              <p:nvGrpSpPr>
                <p:cNvPr id="463" name=""/>
                <p:cNvGrpSpPr/>
                <p:nvPr/>
              </p:nvGrpSpPr>
              <p:grpSpPr>
                <a:xfrm>
                  <a:off x="4669560" y="4156920"/>
                  <a:ext cx="965520" cy="952560"/>
                  <a:chOff x="4669560" y="4156920"/>
                  <a:chExt cx="965520" cy="95256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rot="16200000">
                    <a:off x="494532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66956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4324320" y="3816720"/>
                  <a:ext cx="689760" cy="680400"/>
                  <a:chOff x="4324320" y="3816720"/>
                  <a:chExt cx="689760" cy="68040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432432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rot="16200000">
                    <a:off x="446184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5289120" y="3816720"/>
                  <a:ext cx="689760" cy="680400"/>
                  <a:chOff x="5289120" y="3816720"/>
                  <a:chExt cx="689760" cy="68040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528912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6200000">
                    <a:off x="542628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4324320" y="4763880"/>
                  <a:ext cx="689760" cy="680400"/>
                  <a:chOff x="4324320" y="4763880"/>
                  <a:chExt cx="689760" cy="6804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432432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6200000">
                    <a:off x="446184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5289120" y="4763880"/>
                  <a:ext cx="689760" cy="680400"/>
                  <a:chOff x="5289120" y="4763880"/>
                  <a:chExt cx="689760" cy="68040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528912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6200000">
                    <a:off x="542628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78" name=""/>
          <p:cNvSpPr/>
          <p:nvPr/>
        </p:nvSpPr>
        <p:spPr>
          <a:xfrm>
            <a:off x="3679920" y="3184560"/>
            <a:ext cx="1936800" cy="1936800"/>
          </a:xfrm>
          <a:prstGeom prst="ellipse">
            <a:avLst/>
          </a:prstGeom>
          <a:solidFill>
            <a:srgbClr val="66ff66">
              <a:alpha val="4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24360" y="1557360"/>
            <a:ext cx="1414440" cy="1414440"/>
          </a:xfrm>
          <a:prstGeom prst="ellipse">
            <a:avLst/>
          </a:prstGeom>
          <a:solidFill>
            <a:srgbClr val="66ff66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28680" y="558972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de cône Cerenkov à 1,5m et 2m de la surface des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6000" y="225360"/>
            <a:ext cx="650880" cy="65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16200000">
            <a:off x="2951280" y="333360"/>
            <a:ext cx="395280" cy="395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2880" y="3682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’’ (46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439800" y="3682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’’ (28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73E60-663C-4E42-A385-7C4BA87A73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888480" y="321840"/>
            <a:ext cx="7832520" cy="5911920"/>
            <a:chOff x="888480" y="321840"/>
            <a:chExt cx="7832520" cy="5911920"/>
          </a:xfrm>
        </p:grpSpPr>
        <p:grpSp>
          <p:nvGrpSpPr>
            <p:cNvPr id="486" name=""/>
            <p:cNvGrpSpPr/>
            <p:nvPr/>
          </p:nvGrpSpPr>
          <p:grpSpPr>
            <a:xfrm>
              <a:off x="888480" y="1812960"/>
              <a:ext cx="2644560" cy="2901240"/>
              <a:chOff x="888480" y="1812960"/>
              <a:chExt cx="2644560" cy="290124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888840" y="1812960"/>
                <a:ext cx="2644200" cy="2396520"/>
                <a:chOff x="888840" y="1812960"/>
                <a:chExt cx="2644200" cy="2396520"/>
              </a:xfrm>
            </p:grpSpPr>
            <p:grpSp>
              <p:nvGrpSpPr>
                <p:cNvPr id="488" name=""/>
                <p:cNvGrpSpPr/>
                <p:nvPr/>
              </p:nvGrpSpPr>
              <p:grpSpPr>
                <a:xfrm>
                  <a:off x="899280" y="1815480"/>
                  <a:ext cx="1769400" cy="1900440"/>
                  <a:chOff x="899280" y="1815480"/>
                  <a:chExt cx="1769400" cy="190044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flipV="1" rot="19825800">
                    <a:off x="1497960" y="24566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V="1" rot="19825800">
                    <a:off x="1878840" y="2933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V="1" rot="19825800">
                    <a:off x="1886040" y="19357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V="1" rot="19825800">
                    <a:off x="1019520" y="2427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V="1" rot="3625800">
                    <a:off x="1730880" y="25740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1763640" y="1812960"/>
                  <a:ext cx="1769400" cy="1900080"/>
                  <a:chOff x="1763640" y="1812960"/>
                  <a:chExt cx="1769400" cy="190008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rot="19825800">
                    <a:off x="1937160" y="22104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rot="19825800">
                    <a:off x="1890360" y="19332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19825800">
                    <a:off x="2750400" y="2438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19825800">
                    <a:off x="1883880" y="2930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14425800">
                    <a:off x="2296800" y="25513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888840" y="2309400"/>
                  <a:ext cx="1769400" cy="1900080"/>
                  <a:chOff x="888840" y="2309400"/>
                  <a:chExt cx="1769400" cy="190008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rot="19825800">
                    <a:off x="1062360" y="27068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rot="19825800">
                    <a:off x="1015560" y="2429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rot="19825800">
                    <a:off x="1875600" y="29350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19825800">
                    <a:off x="1009080" y="3426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rot="14425800">
                    <a:off x="1422000" y="30474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888480" y="2318400"/>
                <a:ext cx="2644560" cy="2395800"/>
                <a:chOff x="888480" y="2318400"/>
                <a:chExt cx="2644560" cy="2395800"/>
              </a:xfrm>
            </p:grpSpPr>
            <p:grpSp>
              <p:nvGrpSpPr>
                <p:cNvPr id="507" name=""/>
                <p:cNvGrpSpPr/>
                <p:nvPr/>
              </p:nvGrpSpPr>
              <p:grpSpPr>
                <a:xfrm>
                  <a:off x="1751400" y="2813040"/>
                  <a:ext cx="1769400" cy="1899000"/>
                  <a:chOff x="1751400" y="2813040"/>
                  <a:chExt cx="1769400" cy="189900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 rot="19825800">
                    <a:off x="1924920" y="32097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19825800">
                    <a:off x="1878480" y="29332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19825800">
                    <a:off x="2738160" y="3437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19825800">
                    <a:off x="1871640" y="3929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14425800">
                    <a:off x="2284920" y="35506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1763280" y="2318400"/>
                  <a:ext cx="1769760" cy="1899360"/>
                  <a:chOff x="1763280" y="2318400"/>
                  <a:chExt cx="1769760" cy="18993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flipV="1" rot="19825800">
                    <a:off x="2362320" y="29592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V="1" rot="19825800">
                    <a:off x="2742480" y="34351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V="1" rot="19825800">
                    <a:off x="2750400" y="2438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V="1" rot="19825800">
                    <a:off x="1883520" y="2930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V="1" rot="3625800">
                    <a:off x="2595240" y="30762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888480" y="2814480"/>
                  <a:ext cx="1769760" cy="1899720"/>
                  <a:chOff x="888480" y="2814480"/>
                  <a:chExt cx="1769760" cy="189972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flipV="1" rot="19825800">
                    <a:off x="1487520" y="34556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V="1" rot="19825800">
                    <a:off x="1867680" y="39315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 rot="19825800">
                    <a:off x="1875600" y="29347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 rot="19825800">
                    <a:off x="1008720" y="3426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 rot="3625800">
                    <a:off x="1720080" y="35726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5" name=""/>
            <p:cNvGrpSpPr/>
            <p:nvPr/>
          </p:nvGrpSpPr>
          <p:grpSpPr>
            <a:xfrm>
              <a:off x="2617200" y="1825200"/>
              <a:ext cx="2644920" cy="2900880"/>
              <a:chOff x="2617200" y="1825200"/>
              <a:chExt cx="2644920" cy="290088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2617200" y="1825200"/>
                <a:ext cx="2644560" cy="2395440"/>
                <a:chOff x="2617200" y="1825200"/>
                <a:chExt cx="2644560" cy="2395440"/>
              </a:xfrm>
            </p:grpSpPr>
            <p:grpSp>
              <p:nvGrpSpPr>
                <p:cNvPr id="527" name=""/>
                <p:cNvGrpSpPr/>
                <p:nvPr/>
              </p:nvGrpSpPr>
              <p:grpSpPr>
                <a:xfrm>
                  <a:off x="2628360" y="1827720"/>
                  <a:ext cx="1769400" cy="1899360"/>
                  <a:chOff x="2628360" y="1827720"/>
                  <a:chExt cx="1769400" cy="189936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flipV="1" rot="19825800">
                    <a:off x="3227040" y="24685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 rot="19825800">
                    <a:off x="3607560" y="29444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V="1" rot="19825800">
                    <a:off x="3615120" y="19479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 rot="19825800">
                    <a:off x="2748600" y="2439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V="1" rot="3625800">
                    <a:off x="3459960" y="25855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3492360" y="1825200"/>
                  <a:ext cx="1769400" cy="1899000"/>
                  <a:chOff x="3492360" y="1825200"/>
                  <a:chExt cx="1769400" cy="189900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 rot="19825800">
                    <a:off x="3665880" y="22219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rot="19825800">
                    <a:off x="3619440" y="19454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rot="19825800">
                    <a:off x="4479120" y="24498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rot="19825800">
                    <a:off x="3612600" y="29415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rot="14425800">
                    <a:off x="4025880" y="25628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2617200" y="2321640"/>
                  <a:ext cx="1769760" cy="1899000"/>
                  <a:chOff x="2617200" y="2321640"/>
                  <a:chExt cx="1769760" cy="189900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rot="19825800">
                    <a:off x="2791080" y="27183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9825800">
                    <a:off x="2744280" y="2441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9825800">
                    <a:off x="3604320" y="2946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9825800">
                    <a:off x="2737440" y="34380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4425800">
                    <a:off x="3151080" y="30592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5" name=""/>
              <p:cNvGrpSpPr/>
              <p:nvPr/>
            </p:nvGrpSpPr>
            <p:grpSpPr>
              <a:xfrm>
                <a:off x="2617560" y="2330280"/>
                <a:ext cx="2644560" cy="2395800"/>
                <a:chOff x="2617560" y="2330280"/>
                <a:chExt cx="2644560" cy="2395800"/>
              </a:xfrm>
            </p:grpSpPr>
            <p:grpSp>
              <p:nvGrpSpPr>
                <p:cNvPr id="546" name=""/>
                <p:cNvGrpSpPr/>
                <p:nvPr/>
              </p:nvGrpSpPr>
              <p:grpSpPr>
                <a:xfrm>
                  <a:off x="3480480" y="2824920"/>
                  <a:ext cx="1769400" cy="1899000"/>
                  <a:chOff x="3480480" y="2824920"/>
                  <a:chExt cx="1769400" cy="18990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9825800">
                    <a:off x="3654000" y="32216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9825800">
                    <a:off x="3607560" y="29451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9825800">
                    <a:off x="4467240" y="3449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9825800">
                    <a:off x="3600720" y="3941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4425800">
                    <a:off x="4014000" y="3562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3492360" y="2330280"/>
                  <a:ext cx="1769760" cy="1899360"/>
                  <a:chOff x="3492360" y="2330280"/>
                  <a:chExt cx="1769760" cy="189936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flipV="1" rot="19825800">
                    <a:off x="4091400" y="29710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V="1" rot="19825800">
                    <a:off x="4471560" y="34470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flipV="1" rot="19825800">
                    <a:off x="4479480" y="2450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V="1" rot="19825800">
                    <a:off x="3612600" y="2942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V="1" rot="3625800">
                    <a:off x="4323960" y="30880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2617560" y="2826360"/>
                  <a:ext cx="1769760" cy="1899720"/>
                  <a:chOff x="2617560" y="2826360"/>
                  <a:chExt cx="1769760" cy="189972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V="1" rot="19825800">
                    <a:off x="3216600" y="34675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V="1" rot="19825800">
                    <a:off x="3596760" y="39434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V="1" rot="19825800">
                    <a:off x="3604680" y="2946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V="1" rot="19825800">
                    <a:off x="2737800" y="3438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V="1" rot="3625800">
                    <a:off x="3449160" y="35845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4" name=""/>
            <p:cNvGrpSpPr/>
            <p:nvPr/>
          </p:nvGrpSpPr>
          <p:grpSpPr>
            <a:xfrm>
              <a:off x="4347000" y="1836720"/>
              <a:ext cx="2644920" cy="2900880"/>
              <a:chOff x="4347000" y="1836720"/>
              <a:chExt cx="2644920" cy="290088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4347000" y="1836720"/>
                <a:ext cx="2644560" cy="2395440"/>
                <a:chOff x="4347000" y="1836720"/>
                <a:chExt cx="2644560" cy="2395440"/>
              </a:xfrm>
            </p:grpSpPr>
            <p:grpSp>
              <p:nvGrpSpPr>
                <p:cNvPr id="566" name=""/>
                <p:cNvGrpSpPr/>
                <p:nvPr/>
              </p:nvGrpSpPr>
              <p:grpSpPr>
                <a:xfrm>
                  <a:off x="4357800" y="1839240"/>
                  <a:ext cx="1769760" cy="1899360"/>
                  <a:chOff x="4357800" y="1839240"/>
                  <a:chExt cx="1769760" cy="189936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V="1" rot="19825800">
                    <a:off x="4956840" y="2480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V="1" rot="19825800">
                    <a:off x="5337000" y="29559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V="1" rot="19825800">
                    <a:off x="5344920" y="1959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V="1" rot="19825800">
                    <a:off x="4478040" y="2451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V="1" rot="3625800">
                    <a:off x="5189400" y="25970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5221800" y="1836720"/>
                  <a:ext cx="1769760" cy="1899360"/>
                  <a:chOff x="5221800" y="1836720"/>
                  <a:chExt cx="1769760" cy="189936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rot="19825800">
                    <a:off x="5395680" y="22334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19825800">
                    <a:off x="5348880" y="19569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19825800">
                    <a:off x="6208920" y="2461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19825800">
                    <a:off x="5342040" y="29534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14425800">
                    <a:off x="5755680" y="25743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4347000" y="2333160"/>
                  <a:ext cx="1769760" cy="1899000"/>
                  <a:chOff x="4347000" y="2333160"/>
                  <a:chExt cx="1769760" cy="189900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rot="19825800">
                    <a:off x="4520880" y="27298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rot="19825800">
                    <a:off x="4474080" y="24534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9825800">
                    <a:off x="5334120" y="29577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9825800">
                    <a:off x="4467240" y="3449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4425800">
                    <a:off x="4880520" y="30708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4" name=""/>
              <p:cNvGrpSpPr/>
              <p:nvPr/>
            </p:nvGrpSpPr>
            <p:grpSpPr>
              <a:xfrm>
                <a:off x="4347360" y="2341800"/>
                <a:ext cx="2644560" cy="2395800"/>
                <a:chOff x="4347360" y="2341800"/>
                <a:chExt cx="2644560" cy="239580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5209920" y="2836440"/>
                  <a:ext cx="1769760" cy="1899360"/>
                  <a:chOff x="5209920" y="2836440"/>
                  <a:chExt cx="1769760" cy="18993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 rot="19825800">
                    <a:off x="5383800" y="32331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rot="19825800">
                    <a:off x="5337000" y="29566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rot="19825800">
                    <a:off x="6197040" y="3461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19825800">
                    <a:off x="5330160" y="3953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rot="14425800">
                    <a:off x="5743800" y="35740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5222160" y="2341800"/>
                  <a:ext cx="1769760" cy="1899360"/>
                  <a:chOff x="5222160" y="2341800"/>
                  <a:chExt cx="1769760" cy="18993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 flipV="1" rot="19825800">
                    <a:off x="5820840" y="29826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V="1" rot="19825800">
                    <a:off x="6201360" y="34585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V="1" rot="19825800">
                    <a:off x="6209280" y="2462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V="1" rot="19825800">
                    <a:off x="5342400" y="29538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V="1" rot="3625800">
                    <a:off x="6053760" y="30996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4347360" y="2838240"/>
                  <a:ext cx="1769400" cy="1899360"/>
                  <a:chOff x="4347360" y="2838240"/>
                  <a:chExt cx="1769400" cy="189936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 flipV="1" rot="19825800">
                    <a:off x="4946040" y="3479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V="1" rot="19825800">
                    <a:off x="5326560" y="39549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V="1" rot="19825800">
                    <a:off x="5334120" y="2958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V="1" rot="19825800">
                    <a:off x="4467600" y="3450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V="1" rot="3625800">
                    <a:off x="5178960" y="35960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3" name=""/>
            <p:cNvGrpSpPr/>
            <p:nvPr/>
          </p:nvGrpSpPr>
          <p:grpSpPr>
            <a:xfrm>
              <a:off x="6076080" y="1848240"/>
              <a:ext cx="2644920" cy="2900880"/>
              <a:chOff x="6076080" y="1848240"/>
              <a:chExt cx="2644920" cy="290088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6076080" y="1848240"/>
                <a:ext cx="2644560" cy="2395440"/>
                <a:chOff x="6076080" y="1848240"/>
                <a:chExt cx="2644560" cy="2395440"/>
              </a:xfrm>
            </p:grpSpPr>
            <p:grpSp>
              <p:nvGrpSpPr>
                <p:cNvPr id="605" name=""/>
                <p:cNvGrpSpPr/>
                <p:nvPr/>
              </p:nvGrpSpPr>
              <p:grpSpPr>
                <a:xfrm>
                  <a:off x="6087240" y="1850400"/>
                  <a:ext cx="1769400" cy="1899720"/>
                  <a:chOff x="6087240" y="1850400"/>
                  <a:chExt cx="1769400" cy="189972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flipV="1" rot="19825800">
                    <a:off x="6685920" y="24915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V="1" rot="19825800">
                    <a:off x="7066080" y="29674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V="1" rot="19825800">
                    <a:off x="7074000" y="1970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V="1" rot="19825800">
                    <a:off x="6207480" y="2462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V="1" rot="3625800">
                    <a:off x="6918840" y="2608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6951240" y="1848240"/>
                  <a:ext cx="1769400" cy="1899000"/>
                  <a:chOff x="6951240" y="1848240"/>
                  <a:chExt cx="1769400" cy="189900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9825800">
                    <a:off x="7124760" y="22449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9825800">
                    <a:off x="7077960" y="19684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9825800">
                    <a:off x="7938000" y="2472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9825800">
                    <a:off x="7071480" y="2964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4425800">
                    <a:off x="7484760" y="25858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6076080" y="2344680"/>
                  <a:ext cx="1769760" cy="1899000"/>
                  <a:chOff x="6076080" y="2344680"/>
                  <a:chExt cx="1769760" cy="18990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rot="19825800">
                    <a:off x="6249960" y="2741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19825800">
                    <a:off x="6203160" y="24649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rot="19825800">
                    <a:off x="7063200" y="2969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rot="19825800">
                    <a:off x="6196320" y="3461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rot="14425800">
                    <a:off x="6609960" y="30823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3" name=""/>
              <p:cNvGrpSpPr/>
              <p:nvPr/>
            </p:nvGrpSpPr>
            <p:grpSpPr>
              <a:xfrm>
                <a:off x="6076440" y="2353320"/>
                <a:ext cx="2644560" cy="2395800"/>
                <a:chOff x="6076440" y="2353320"/>
                <a:chExt cx="2644560" cy="2395800"/>
              </a:xfrm>
            </p:grpSpPr>
            <p:grpSp>
              <p:nvGrpSpPr>
                <p:cNvPr id="624" name=""/>
                <p:cNvGrpSpPr/>
                <p:nvPr/>
              </p:nvGrpSpPr>
              <p:grpSpPr>
                <a:xfrm>
                  <a:off x="6939360" y="2847960"/>
                  <a:ext cx="1769400" cy="1899000"/>
                  <a:chOff x="6939360" y="2847960"/>
                  <a:chExt cx="1769400" cy="189900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 rot="19825800">
                    <a:off x="7112880" y="32446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rot="19825800">
                    <a:off x="7066440" y="29682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rot="19825800">
                    <a:off x="7926120" y="34725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rot="19825800">
                    <a:off x="7059600" y="3964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rot="14425800">
                    <a:off x="7472880" y="35856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6951240" y="2353320"/>
                  <a:ext cx="1769760" cy="1899360"/>
                  <a:chOff x="6951240" y="2353320"/>
                  <a:chExt cx="1769760" cy="189936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 flipV="1" rot="19825800">
                    <a:off x="7550280" y="29941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V="1" rot="19825800">
                    <a:off x="7930440" y="34700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V="1" rot="19825800">
                    <a:off x="7938360" y="24735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V="1" rot="19825800">
                    <a:off x="7071480" y="2965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V="1" rot="3625800">
                    <a:off x="7782840" y="31111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6076440" y="2849400"/>
                  <a:ext cx="1769760" cy="1899720"/>
                  <a:chOff x="6076440" y="2849400"/>
                  <a:chExt cx="1769760" cy="189972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flipV="1" rot="19825800">
                    <a:off x="6675480" y="34905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V="1" rot="19825800">
                    <a:off x="7055640" y="39664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V="1" rot="19825800">
                    <a:off x="7063560" y="2969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V="1" rot="19825800">
                    <a:off x="6196680" y="3461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V="1" rot="3625800">
                    <a:off x="6908040" y="3607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2" name=""/>
            <p:cNvGrpSpPr/>
            <p:nvPr/>
          </p:nvGrpSpPr>
          <p:grpSpPr>
            <a:xfrm>
              <a:off x="1740600" y="3315600"/>
              <a:ext cx="2644920" cy="2900880"/>
              <a:chOff x="1740600" y="3315600"/>
              <a:chExt cx="2644920" cy="2900880"/>
            </a:xfrm>
          </p:grpSpPr>
          <p:grpSp>
            <p:nvGrpSpPr>
              <p:cNvPr id="643" name=""/>
              <p:cNvGrpSpPr/>
              <p:nvPr/>
            </p:nvGrpSpPr>
            <p:grpSpPr>
              <a:xfrm>
                <a:off x="1740600" y="3315600"/>
                <a:ext cx="2644560" cy="2395440"/>
                <a:chOff x="1740600" y="3315600"/>
                <a:chExt cx="2644560" cy="2395440"/>
              </a:xfrm>
            </p:grpSpPr>
            <p:grpSp>
              <p:nvGrpSpPr>
                <p:cNvPr id="644" name=""/>
                <p:cNvGrpSpPr/>
                <p:nvPr/>
              </p:nvGrpSpPr>
              <p:grpSpPr>
                <a:xfrm>
                  <a:off x="1751760" y="3317760"/>
                  <a:ext cx="1769400" cy="1899720"/>
                  <a:chOff x="1751760" y="3317760"/>
                  <a:chExt cx="1769400" cy="189972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 flipV="1" rot="19825800">
                    <a:off x="2350440" y="39589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V="1" rot="19825800">
                    <a:off x="2730600" y="44348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V="1" rot="19825800">
                    <a:off x="2738520" y="34380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V="1" rot="19825800">
                    <a:off x="1872000" y="39297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V="1" rot="3625800">
                    <a:off x="2583360" y="40759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"/>
                <p:cNvGrpSpPr/>
                <p:nvPr/>
              </p:nvGrpSpPr>
              <p:grpSpPr>
                <a:xfrm>
                  <a:off x="2615400" y="3315600"/>
                  <a:ext cx="1769760" cy="1899000"/>
                  <a:chOff x="2615400" y="3315600"/>
                  <a:chExt cx="1769760" cy="189900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rot="19825800">
                    <a:off x="2789280" y="3712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19825800">
                    <a:off x="2742480" y="34358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rot="19825800">
                    <a:off x="3602520" y="39402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rot="19825800">
                    <a:off x="2735640" y="44319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rot="14425800">
                    <a:off x="3149280" y="40532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"/>
                <p:cNvGrpSpPr/>
                <p:nvPr/>
              </p:nvGrpSpPr>
              <p:grpSpPr>
                <a:xfrm>
                  <a:off x="1740600" y="3812040"/>
                  <a:ext cx="1769760" cy="1899000"/>
                  <a:chOff x="1740600" y="3812040"/>
                  <a:chExt cx="1769760" cy="189900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 rot="19825800">
                    <a:off x="1914480" y="42087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rot="19825800">
                    <a:off x="1867680" y="39322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rot="19825800">
                    <a:off x="2727720" y="4436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19825800">
                    <a:off x="1860840" y="4928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rot="14425800">
                    <a:off x="2274480" y="45496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2" name=""/>
              <p:cNvGrpSpPr/>
              <p:nvPr/>
            </p:nvGrpSpPr>
            <p:grpSpPr>
              <a:xfrm>
                <a:off x="1740960" y="3820680"/>
                <a:ext cx="2644560" cy="2395800"/>
                <a:chOff x="1740960" y="3820680"/>
                <a:chExt cx="2644560" cy="2395800"/>
              </a:xfrm>
            </p:grpSpPr>
            <p:grpSp>
              <p:nvGrpSpPr>
                <p:cNvPr id="663" name=""/>
                <p:cNvGrpSpPr/>
                <p:nvPr/>
              </p:nvGrpSpPr>
              <p:grpSpPr>
                <a:xfrm>
                  <a:off x="2603520" y="4315320"/>
                  <a:ext cx="1769760" cy="1899000"/>
                  <a:chOff x="2603520" y="4315320"/>
                  <a:chExt cx="1769760" cy="189900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 rot="19825800">
                    <a:off x="2777400" y="4712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rot="19825800">
                    <a:off x="2730600" y="44355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rot="19825800">
                    <a:off x="3590640" y="49399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rot="19825800">
                    <a:off x="2723760" y="5431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rot="14425800">
                    <a:off x="3137400" y="50529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" name=""/>
                <p:cNvGrpSpPr/>
                <p:nvPr/>
              </p:nvGrpSpPr>
              <p:grpSpPr>
                <a:xfrm>
                  <a:off x="2615760" y="3820680"/>
                  <a:ext cx="1769760" cy="1899360"/>
                  <a:chOff x="2615760" y="3820680"/>
                  <a:chExt cx="1769760" cy="189936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 flipV="1" rot="19825800">
                    <a:off x="3214800" y="44614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V="1" rot="19825800">
                    <a:off x="3594960" y="49374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V="1" rot="19825800">
                    <a:off x="3602880" y="39409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V="1" rot="19825800">
                    <a:off x="2736000" y="4432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flipV="1" rot="3625800">
                    <a:off x="3447360" y="45784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5" name=""/>
                <p:cNvGrpSpPr/>
                <p:nvPr/>
              </p:nvGrpSpPr>
              <p:grpSpPr>
                <a:xfrm>
                  <a:off x="1740960" y="4316760"/>
                  <a:ext cx="1769760" cy="1899720"/>
                  <a:chOff x="1740960" y="4316760"/>
                  <a:chExt cx="1769760" cy="189972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 flipV="1" rot="19825800">
                    <a:off x="2339640" y="49579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V="1" rot="19825800">
                    <a:off x="2720160" y="54338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V="1" rot="19825800">
                    <a:off x="2728080" y="44370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V="1" rot="19825800">
                    <a:off x="1861200" y="49287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flipV="1" rot="3625800">
                    <a:off x="2572560" y="50749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1" name=""/>
            <p:cNvGrpSpPr/>
            <p:nvPr/>
          </p:nvGrpSpPr>
          <p:grpSpPr>
            <a:xfrm>
              <a:off x="3480840" y="3321000"/>
              <a:ext cx="2644560" cy="2900520"/>
              <a:chOff x="3480840" y="3321000"/>
              <a:chExt cx="2644560" cy="290052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3480840" y="3321000"/>
                <a:ext cx="2644560" cy="2395440"/>
                <a:chOff x="3480840" y="3321000"/>
                <a:chExt cx="2644560" cy="2395440"/>
              </a:xfrm>
            </p:grpSpPr>
            <p:grpSp>
              <p:nvGrpSpPr>
                <p:cNvPr id="683" name=""/>
                <p:cNvGrpSpPr/>
                <p:nvPr/>
              </p:nvGrpSpPr>
              <p:grpSpPr>
                <a:xfrm>
                  <a:off x="3491640" y="3323160"/>
                  <a:ext cx="1769760" cy="1899360"/>
                  <a:chOff x="3491640" y="3323160"/>
                  <a:chExt cx="1769760" cy="189936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 flipV="1" rot="19825800">
                    <a:off x="4090680" y="3964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flipV="1" rot="19825800">
                    <a:off x="4470840" y="4439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V="1" rot="19825800">
                    <a:off x="4478760" y="3443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V="1" rot="19825800">
                    <a:off x="3611880" y="3935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flipV="1" rot="3625800">
                    <a:off x="4323240" y="40809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" name=""/>
                <p:cNvGrpSpPr/>
                <p:nvPr/>
              </p:nvGrpSpPr>
              <p:grpSpPr>
                <a:xfrm>
                  <a:off x="4355640" y="3321000"/>
                  <a:ext cx="1769760" cy="1899000"/>
                  <a:chOff x="4355640" y="3321000"/>
                  <a:chExt cx="1769760" cy="18990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 rot="19825800">
                    <a:off x="4529520" y="37173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rot="19825800">
                    <a:off x="4482720" y="34412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rot="19825800">
                    <a:off x="5342760" y="3945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rot="19825800">
                    <a:off x="4475880" y="4437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rot="14425800">
                    <a:off x="4889160" y="40582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3480840" y="3817080"/>
                  <a:ext cx="1769760" cy="1899360"/>
                  <a:chOff x="3480840" y="3817080"/>
                  <a:chExt cx="1769760" cy="189936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 rot="19825800">
                    <a:off x="3654360" y="42138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rot="19825800">
                    <a:off x="3607920" y="39373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rot="19825800">
                    <a:off x="4467960" y="4442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rot="19825800">
                    <a:off x="3601080" y="49338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rot="14425800">
                    <a:off x="4014360" y="45547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1" name=""/>
              <p:cNvGrpSpPr/>
              <p:nvPr/>
            </p:nvGrpSpPr>
            <p:grpSpPr>
              <a:xfrm>
                <a:off x="3481200" y="3825720"/>
                <a:ext cx="2644200" cy="2395800"/>
                <a:chOff x="3481200" y="3825720"/>
                <a:chExt cx="2644200" cy="2395800"/>
              </a:xfrm>
            </p:grpSpPr>
            <p:grpSp>
              <p:nvGrpSpPr>
                <p:cNvPr id="702" name=""/>
                <p:cNvGrpSpPr/>
                <p:nvPr/>
              </p:nvGrpSpPr>
              <p:grpSpPr>
                <a:xfrm>
                  <a:off x="4343760" y="4320720"/>
                  <a:ext cx="1769760" cy="1899000"/>
                  <a:chOff x="4343760" y="4320720"/>
                  <a:chExt cx="1769760" cy="189900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rot="19825800">
                    <a:off x="4517640" y="47170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rot="19825800">
                    <a:off x="4470840" y="44409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rot="19825800">
                    <a:off x="5330880" y="4945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 rot="19825800">
                    <a:off x="4464000" y="54370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rot="14425800">
                    <a:off x="4877640" y="50580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" name=""/>
                <p:cNvGrpSpPr/>
                <p:nvPr/>
              </p:nvGrpSpPr>
              <p:grpSpPr>
                <a:xfrm>
                  <a:off x="4356000" y="3825720"/>
                  <a:ext cx="1769400" cy="1899360"/>
                  <a:chOff x="4356000" y="3825720"/>
                  <a:chExt cx="1769400" cy="189936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 flipV="1" rot="19825800">
                    <a:off x="4954680" y="44668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V="1" rot="19825800">
                    <a:off x="5335200" y="49424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V="1" rot="19825800">
                    <a:off x="5342760" y="39459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V="1" rot="19825800">
                    <a:off x="4476240" y="44377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flipV="1" rot="3625800">
                    <a:off x="5187600" y="45838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4" name=""/>
                <p:cNvGrpSpPr/>
                <p:nvPr/>
              </p:nvGrpSpPr>
              <p:grpSpPr>
                <a:xfrm>
                  <a:off x="3481200" y="4322160"/>
                  <a:ext cx="1769400" cy="1899360"/>
                  <a:chOff x="3481200" y="4322160"/>
                  <a:chExt cx="1769400" cy="189936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 flipV="1" rot="19825800">
                    <a:off x="4079880" y="4963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V="1" rot="19825800">
                    <a:off x="4460400" y="5438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V="1" rot="19825800">
                    <a:off x="4467960" y="4442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 flipV="1" rot="19825800">
                    <a:off x="3601440" y="4934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flipV="1" rot="3625800">
                    <a:off x="4312800" y="50799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20" name=""/>
            <p:cNvGrpSpPr/>
            <p:nvPr/>
          </p:nvGrpSpPr>
          <p:grpSpPr>
            <a:xfrm>
              <a:off x="5209200" y="3333240"/>
              <a:ext cx="2644920" cy="2900520"/>
              <a:chOff x="5209200" y="3333240"/>
              <a:chExt cx="2644920" cy="290052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5209200" y="3333240"/>
                <a:ext cx="2644560" cy="2395440"/>
                <a:chOff x="5209200" y="3333240"/>
                <a:chExt cx="2644560" cy="2395440"/>
              </a:xfrm>
            </p:grpSpPr>
            <p:grpSp>
              <p:nvGrpSpPr>
                <p:cNvPr id="722" name=""/>
                <p:cNvGrpSpPr/>
                <p:nvPr/>
              </p:nvGrpSpPr>
              <p:grpSpPr>
                <a:xfrm>
                  <a:off x="5220360" y="3335400"/>
                  <a:ext cx="1769400" cy="1899360"/>
                  <a:chOff x="5220360" y="3335400"/>
                  <a:chExt cx="1769400" cy="189936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 flipV="1" rot="19825800">
                    <a:off x="5819040" y="39765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V="1" rot="19825800">
                    <a:off x="6199200" y="44521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V="1" rot="19825800">
                    <a:off x="6207120" y="3455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V="1" rot="19825800">
                    <a:off x="5340600" y="3947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V="1" rot="3625800">
                    <a:off x="6051960" y="4093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8" name=""/>
                <p:cNvGrpSpPr/>
                <p:nvPr/>
              </p:nvGrpSpPr>
              <p:grpSpPr>
                <a:xfrm>
                  <a:off x="6084000" y="3333240"/>
                  <a:ext cx="1769760" cy="1899000"/>
                  <a:chOff x="6084000" y="3333240"/>
                  <a:chExt cx="1769760" cy="189900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 rot="19825800">
                    <a:off x="6257880" y="37296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 rot="19825800">
                    <a:off x="6211080" y="34534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rot="19825800">
                    <a:off x="7071120" y="3957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rot="19825800">
                    <a:off x="6204240" y="4449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rot="14425800">
                    <a:off x="6617880" y="40705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4" name=""/>
                <p:cNvGrpSpPr/>
                <p:nvPr/>
              </p:nvGrpSpPr>
              <p:grpSpPr>
                <a:xfrm>
                  <a:off x="5209200" y="3829680"/>
                  <a:ext cx="1769760" cy="1899000"/>
                  <a:chOff x="5209200" y="3829680"/>
                  <a:chExt cx="1769760" cy="1899000"/>
                </a:xfrm>
              </p:grpSpPr>
              <p:sp>
                <p:nvSpPr>
                  <p:cNvPr id="735" name=""/>
                  <p:cNvSpPr/>
                  <p:nvPr/>
                </p:nvSpPr>
                <p:spPr>
                  <a:xfrm rot="19825800">
                    <a:off x="5383080" y="4226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 rot="19825800">
                    <a:off x="5336280" y="39499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rot="19825800">
                    <a:off x="6196320" y="4454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 rot="19825800">
                    <a:off x="5329440" y="4946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rot="14425800">
                    <a:off x="5743080" y="45669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0" name=""/>
              <p:cNvGrpSpPr/>
              <p:nvPr/>
            </p:nvGrpSpPr>
            <p:grpSpPr>
              <a:xfrm>
                <a:off x="5209560" y="3837960"/>
                <a:ext cx="2644560" cy="2395800"/>
                <a:chOff x="5209560" y="3837960"/>
                <a:chExt cx="2644560" cy="2395800"/>
              </a:xfrm>
            </p:grpSpPr>
            <p:grpSp>
              <p:nvGrpSpPr>
                <p:cNvPr id="741" name=""/>
                <p:cNvGrpSpPr/>
                <p:nvPr/>
              </p:nvGrpSpPr>
              <p:grpSpPr>
                <a:xfrm>
                  <a:off x="6072120" y="4332960"/>
                  <a:ext cx="1769760" cy="1899000"/>
                  <a:chOff x="6072120" y="4332960"/>
                  <a:chExt cx="1769760" cy="189900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 rot="19825800">
                    <a:off x="6246000" y="4729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rot="19825800">
                    <a:off x="6199200" y="44532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rot="19825800">
                    <a:off x="7059240" y="49575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rot="19825800">
                    <a:off x="6192360" y="5449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rot="14425800">
                    <a:off x="6606000" y="50702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" name=""/>
                <p:cNvGrpSpPr/>
                <p:nvPr/>
              </p:nvGrpSpPr>
              <p:grpSpPr>
                <a:xfrm>
                  <a:off x="6084360" y="3837960"/>
                  <a:ext cx="1769760" cy="1899720"/>
                  <a:chOff x="6084360" y="3837960"/>
                  <a:chExt cx="1769760" cy="189972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 flipV="1" rot="19825800">
                    <a:off x="6683400" y="44791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V="1" rot="19825800">
                    <a:off x="7063560" y="49550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V="1" rot="19825800">
                    <a:off x="7071480" y="39582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flipV="1" rot="19825800">
                    <a:off x="6204600" y="44499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V="1" rot="3625800">
                    <a:off x="6915960" y="45961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"/>
                <p:cNvGrpSpPr/>
                <p:nvPr/>
              </p:nvGrpSpPr>
              <p:grpSpPr>
                <a:xfrm>
                  <a:off x="5209560" y="4334400"/>
                  <a:ext cx="1769760" cy="1899360"/>
                  <a:chOff x="5209560" y="4334400"/>
                  <a:chExt cx="1769760" cy="1899360"/>
                </a:xfrm>
              </p:grpSpPr>
              <p:sp>
                <p:nvSpPr>
                  <p:cNvPr id="754" name=""/>
                  <p:cNvSpPr/>
                  <p:nvPr/>
                </p:nvSpPr>
                <p:spPr>
                  <a:xfrm flipV="1" rot="19825800">
                    <a:off x="5808240" y="49755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V="1" rot="19825800">
                    <a:off x="6188760" y="54511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V="1" rot="19825800">
                    <a:off x="6196680" y="4454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V="1" rot="19825800">
                    <a:off x="5329800" y="4946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V="1" rot="3625800">
                    <a:off x="6041160" y="50922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9" name=""/>
            <p:cNvGrpSpPr/>
            <p:nvPr/>
          </p:nvGrpSpPr>
          <p:grpSpPr>
            <a:xfrm>
              <a:off x="5232960" y="341280"/>
              <a:ext cx="2644920" cy="2900520"/>
              <a:chOff x="5232960" y="341280"/>
              <a:chExt cx="2644920" cy="290052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5232960" y="341280"/>
                <a:ext cx="2644560" cy="2395440"/>
                <a:chOff x="5232960" y="341280"/>
                <a:chExt cx="2644560" cy="2395440"/>
              </a:xfrm>
            </p:grpSpPr>
            <p:grpSp>
              <p:nvGrpSpPr>
                <p:cNvPr id="761" name=""/>
                <p:cNvGrpSpPr/>
                <p:nvPr/>
              </p:nvGrpSpPr>
              <p:grpSpPr>
                <a:xfrm>
                  <a:off x="5244120" y="343440"/>
                  <a:ext cx="1769400" cy="1899360"/>
                  <a:chOff x="5244120" y="343440"/>
                  <a:chExt cx="1769400" cy="189936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 flipV="1" rot="19825800">
                    <a:off x="5842800" y="9846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V="1" rot="19825800">
                    <a:off x="6222960" y="14601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V="1" rot="19825800">
                    <a:off x="6230880" y="463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V="1" rot="19825800">
                    <a:off x="5364360" y="9554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V="1" rot="3625800">
                    <a:off x="6075720" y="11012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6107760" y="341280"/>
                  <a:ext cx="1769760" cy="1899000"/>
                  <a:chOff x="6107760" y="341280"/>
                  <a:chExt cx="1769760" cy="189900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 rot="19825800">
                    <a:off x="6281640" y="7376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rot="19825800">
                    <a:off x="6234840" y="4615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rot="19825800">
                    <a:off x="7094880" y="9658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rot="19825800">
                    <a:off x="6228000" y="1457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rot="14425800">
                    <a:off x="6641640" y="1078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5232960" y="837360"/>
                  <a:ext cx="1769760" cy="1899360"/>
                  <a:chOff x="5232960" y="837360"/>
                  <a:chExt cx="1769760" cy="189936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 rot="19825800">
                    <a:off x="5406840" y="12340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rot="19825800">
                    <a:off x="5360040" y="9576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rot="19825800">
                    <a:off x="6220080" y="1462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rot="19825800">
                    <a:off x="5353200" y="19540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rot="14425800">
                    <a:off x="5766840" y="15750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9" name=""/>
              <p:cNvGrpSpPr/>
              <p:nvPr/>
            </p:nvGrpSpPr>
            <p:grpSpPr>
              <a:xfrm>
                <a:off x="5233320" y="846000"/>
                <a:ext cx="2644560" cy="2395800"/>
                <a:chOff x="5233320" y="846000"/>
                <a:chExt cx="2644560" cy="2395800"/>
              </a:xfrm>
            </p:grpSpPr>
            <p:grpSp>
              <p:nvGrpSpPr>
                <p:cNvPr id="780" name=""/>
                <p:cNvGrpSpPr/>
                <p:nvPr/>
              </p:nvGrpSpPr>
              <p:grpSpPr>
                <a:xfrm>
                  <a:off x="6096240" y="1340640"/>
                  <a:ext cx="1769400" cy="1899360"/>
                  <a:chOff x="6096240" y="1340640"/>
                  <a:chExt cx="1769400" cy="189936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 rot="19825800">
                    <a:off x="6269760" y="17373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rot="19825800">
                    <a:off x="6223320" y="1460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rot="19825800">
                    <a:off x="7083000" y="1965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rot="19825800">
                    <a:off x="6216480" y="2457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rot="14425800">
                    <a:off x="6629760" y="20782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6108120" y="846000"/>
                  <a:ext cx="1769760" cy="1899360"/>
                  <a:chOff x="6108120" y="846000"/>
                  <a:chExt cx="1769760" cy="189936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 flipV="1" rot="19825800">
                    <a:off x="6707160" y="14871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V="1" rot="19825800">
                    <a:off x="7087320" y="19627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V="1" rot="19825800">
                    <a:off x="7095240" y="966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V="1" rot="19825800">
                    <a:off x="6228360" y="14580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V="1" rot="3625800">
                    <a:off x="6939720" y="16041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5233320" y="1342440"/>
                  <a:ext cx="1769760" cy="1899360"/>
                  <a:chOff x="5233320" y="1342440"/>
                  <a:chExt cx="1769760" cy="189936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flipV="1" rot="19825800">
                    <a:off x="5832360" y="19836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V="1" rot="19825800">
                    <a:off x="6212520" y="24591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flipV="1" rot="19825800">
                    <a:off x="6220440" y="1462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V="1" rot="19825800">
                    <a:off x="5353560" y="19544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V="1" rot="3625800">
                    <a:off x="6064920" y="21002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98" name=""/>
            <p:cNvGrpSpPr/>
            <p:nvPr/>
          </p:nvGrpSpPr>
          <p:grpSpPr>
            <a:xfrm>
              <a:off x="3492720" y="334440"/>
              <a:ext cx="2644920" cy="2900520"/>
              <a:chOff x="3492720" y="334440"/>
              <a:chExt cx="2644920" cy="290052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3492720" y="334440"/>
                <a:ext cx="2644560" cy="2395440"/>
                <a:chOff x="3492720" y="334440"/>
                <a:chExt cx="2644560" cy="2395440"/>
              </a:xfrm>
            </p:grpSpPr>
            <p:grpSp>
              <p:nvGrpSpPr>
                <p:cNvPr id="800" name=""/>
                <p:cNvGrpSpPr/>
                <p:nvPr/>
              </p:nvGrpSpPr>
              <p:grpSpPr>
                <a:xfrm>
                  <a:off x="3503880" y="336600"/>
                  <a:ext cx="1769400" cy="1899360"/>
                  <a:chOff x="3503880" y="336600"/>
                  <a:chExt cx="1769400" cy="189936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 flipV="1" rot="19825800">
                    <a:off x="4102560" y="9777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V="1" rot="19825800">
                    <a:off x="4482720" y="14533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V="1" rot="19825800">
                    <a:off x="4490640" y="456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V="1" rot="19825800">
                    <a:off x="3624120" y="948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V="1" rot="3625800">
                    <a:off x="4335480" y="10944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6" name=""/>
                <p:cNvGrpSpPr/>
                <p:nvPr/>
              </p:nvGrpSpPr>
              <p:grpSpPr>
                <a:xfrm>
                  <a:off x="4367880" y="334440"/>
                  <a:ext cx="1769400" cy="1899000"/>
                  <a:chOff x="4367880" y="334440"/>
                  <a:chExt cx="1769400" cy="189900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 rot="19825800">
                    <a:off x="4541400" y="7308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rot="19825800">
                    <a:off x="4494600" y="4546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rot="19825800">
                    <a:off x="5354640" y="959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rot="19825800">
                    <a:off x="4488120" y="14508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rot="14425800">
                    <a:off x="4901400" y="10717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3492720" y="830520"/>
                  <a:ext cx="1769760" cy="1899360"/>
                  <a:chOff x="3492720" y="830520"/>
                  <a:chExt cx="1769760" cy="189936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 rot="19825800">
                    <a:off x="3666600" y="12272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rot="19825800">
                    <a:off x="3619800" y="9507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rot="19825800">
                    <a:off x="4479840" y="1455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rot="19825800">
                    <a:off x="3612960" y="1947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rot="14425800">
                    <a:off x="4026600" y="15681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8" name=""/>
              <p:cNvGrpSpPr/>
              <p:nvPr/>
            </p:nvGrpSpPr>
            <p:grpSpPr>
              <a:xfrm>
                <a:off x="3493080" y="839160"/>
                <a:ext cx="2644560" cy="2395800"/>
                <a:chOff x="3493080" y="839160"/>
                <a:chExt cx="2644560" cy="2395800"/>
              </a:xfrm>
            </p:grpSpPr>
            <p:grpSp>
              <p:nvGrpSpPr>
                <p:cNvPr id="819" name=""/>
                <p:cNvGrpSpPr/>
                <p:nvPr/>
              </p:nvGrpSpPr>
              <p:grpSpPr>
                <a:xfrm>
                  <a:off x="4356000" y="1334160"/>
                  <a:ext cx="1769400" cy="1899000"/>
                  <a:chOff x="4356000" y="1334160"/>
                  <a:chExt cx="1769400" cy="189900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 rot="19825800">
                    <a:off x="4529520" y="17305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rot="19825800">
                    <a:off x="4483080" y="14544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rot="19825800">
                    <a:off x="5342760" y="19587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rot="19825800">
                    <a:off x="4476240" y="2450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rot="14425800">
                    <a:off x="4889520" y="20714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4367880" y="839160"/>
                  <a:ext cx="1769760" cy="1899360"/>
                  <a:chOff x="4367880" y="839160"/>
                  <a:chExt cx="1769760" cy="189936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 flipV="1" rot="19825800">
                    <a:off x="4966920" y="1480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V="1" rot="19825800">
                    <a:off x="5347080" y="1955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V="1" rot="19825800">
                    <a:off x="5355000" y="959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V="1" rot="19825800">
                    <a:off x="4488120" y="1451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V="1" rot="3625800">
                    <a:off x="5199480" y="15973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3493080" y="1335600"/>
                  <a:ext cx="1769760" cy="1899360"/>
                  <a:chOff x="3493080" y="1335600"/>
                  <a:chExt cx="1769760" cy="189936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 flipV="1" rot="19825800">
                    <a:off x="4092120" y="19767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V="1" rot="19825800">
                    <a:off x="4472280" y="24523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V="1" rot="19825800">
                    <a:off x="4480200" y="1455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flipV="1" rot="19825800">
                    <a:off x="3613320" y="1947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V="1" rot="3625800">
                    <a:off x="4324680" y="20934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7" name=""/>
            <p:cNvGrpSpPr/>
            <p:nvPr/>
          </p:nvGrpSpPr>
          <p:grpSpPr>
            <a:xfrm>
              <a:off x="1764720" y="321840"/>
              <a:ext cx="2644560" cy="2900880"/>
              <a:chOff x="1764720" y="321840"/>
              <a:chExt cx="2644560" cy="2900880"/>
            </a:xfrm>
          </p:grpSpPr>
          <p:grpSp>
            <p:nvGrpSpPr>
              <p:cNvPr id="838" name=""/>
              <p:cNvGrpSpPr/>
              <p:nvPr/>
            </p:nvGrpSpPr>
            <p:grpSpPr>
              <a:xfrm>
                <a:off x="1764720" y="321840"/>
                <a:ext cx="2644560" cy="2396160"/>
                <a:chOff x="1764720" y="321840"/>
                <a:chExt cx="2644560" cy="2396160"/>
              </a:xfrm>
            </p:grpSpPr>
            <p:grpSp>
              <p:nvGrpSpPr>
                <p:cNvPr id="839" name=""/>
                <p:cNvGrpSpPr/>
                <p:nvPr/>
              </p:nvGrpSpPr>
              <p:grpSpPr>
                <a:xfrm>
                  <a:off x="1775520" y="324360"/>
                  <a:ext cx="1769400" cy="1900440"/>
                  <a:chOff x="1775520" y="324360"/>
                  <a:chExt cx="1769400" cy="190044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 flipV="1" rot="19825800">
                    <a:off x="2374200" y="9651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flipV="1" rot="19825800">
                    <a:off x="2755080" y="1442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 flipV="1" rot="19825800">
                    <a:off x="2762280" y="444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flipV="1" rot="19825800">
                    <a:off x="1895760" y="936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V="1" rot="3625800">
                    <a:off x="2607120" y="10825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5" name=""/>
                <p:cNvGrpSpPr/>
                <p:nvPr/>
              </p:nvGrpSpPr>
              <p:grpSpPr>
                <a:xfrm>
                  <a:off x="2639520" y="321840"/>
                  <a:ext cx="1769760" cy="1899720"/>
                  <a:chOff x="2639520" y="321840"/>
                  <a:chExt cx="1769760" cy="189972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 rot="19825800">
                    <a:off x="2813400" y="7192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rot="19825800">
                    <a:off x="2766600" y="4420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rot="19825800">
                    <a:off x="3626640" y="947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rot="19825800">
                    <a:off x="2759760" y="14389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rot="14425800">
                    <a:off x="3173040" y="10598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"/>
                <p:cNvGrpSpPr/>
                <p:nvPr/>
              </p:nvGrpSpPr>
              <p:grpSpPr>
                <a:xfrm>
                  <a:off x="1764720" y="817920"/>
                  <a:ext cx="1769760" cy="1900080"/>
                  <a:chOff x="1764720" y="817920"/>
                  <a:chExt cx="1769760" cy="190008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 rot="19825800">
                    <a:off x="1938600" y="12157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rot="19825800">
                    <a:off x="1891800" y="938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 rot="19825800">
                    <a:off x="2751840" y="1443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rot="19825800">
                    <a:off x="1884960" y="1935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rot="14425800">
                    <a:off x="2298240" y="15562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7" name=""/>
              <p:cNvGrpSpPr/>
              <p:nvPr/>
            </p:nvGrpSpPr>
            <p:grpSpPr>
              <a:xfrm>
                <a:off x="1764720" y="826920"/>
                <a:ext cx="2644560" cy="2395800"/>
                <a:chOff x="1764720" y="826920"/>
                <a:chExt cx="2644560" cy="2395800"/>
              </a:xfrm>
            </p:grpSpPr>
            <p:grpSp>
              <p:nvGrpSpPr>
                <p:cNvPr id="858" name=""/>
                <p:cNvGrpSpPr/>
                <p:nvPr/>
              </p:nvGrpSpPr>
              <p:grpSpPr>
                <a:xfrm>
                  <a:off x="2627280" y="1321560"/>
                  <a:ext cx="1769760" cy="1899360"/>
                  <a:chOff x="2627280" y="1321560"/>
                  <a:chExt cx="1769760" cy="189936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 rot="19825800">
                    <a:off x="2801160" y="17182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rot="19825800">
                    <a:off x="2754360" y="14418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rot="19825800">
                    <a:off x="3614400" y="1946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rot="19825800">
                    <a:off x="2747520" y="2438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rot="14425800">
                    <a:off x="3161160" y="20592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4" name=""/>
                <p:cNvGrpSpPr/>
                <p:nvPr/>
              </p:nvGrpSpPr>
              <p:grpSpPr>
                <a:xfrm>
                  <a:off x="2639520" y="826920"/>
                  <a:ext cx="1769760" cy="1899360"/>
                  <a:chOff x="2639520" y="826920"/>
                  <a:chExt cx="1769760" cy="189936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 flipV="1" rot="19825800">
                    <a:off x="3238560" y="14680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V="1" rot="19825800">
                    <a:off x="3618720" y="19436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V="1" rot="19825800">
                    <a:off x="3626640" y="947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V="1" rot="19825800">
                    <a:off x="2759760" y="14389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V="1" rot="3625800">
                    <a:off x="3471120" y="15847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"/>
                <p:cNvGrpSpPr/>
                <p:nvPr/>
              </p:nvGrpSpPr>
              <p:grpSpPr>
                <a:xfrm>
                  <a:off x="1764720" y="1323360"/>
                  <a:ext cx="1769760" cy="1899360"/>
                  <a:chOff x="1764720" y="1323360"/>
                  <a:chExt cx="1769760" cy="189936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 flipV="1" rot="19825800">
                    <a:off x="2363400" y="19641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flipV="1" rot="19825800">
                    <a:off x="2743920" y="24400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flipV="1" rot="19825800">
                    <a:off x="2751840" y="1443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flipV="1" rot="19825800">
                    <a:off x="1884960" y="1935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V="1" rot="3625800">
                    <a:off x="2596320" y="20811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76" name=""/>
          <p:cNvSpPr/>
          <p:nvPr/>
        </p:nvSpPr>
        <p:spPr>
          <a:xfrm>
            <a:off x="4651200" y="3379680"/>
            <a:ext cx="1936800" cy="1936800"/>
          </a:xfrm>
          <a:prstGeom prst="ellipse">
            <a:avLst/>
          </a:prstGeom>
          <a:solidFill>
            <a:srgbClr val="66ff66">
              <a:alpha val="4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340000" y="2038320"/>
            <a:ext cx="1414440" cy="1414440"/>
          </a:xfrm>
          <a:prstGeom prst="ellipse">
            <a:avLst/>
          </a:prstGeom>
          <a:solidFill>
            <a:srgbClr val="66ff66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936800" y="616572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de cône Cerenkov à 1,5m et 2m de la surface des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16000" y="152280"/>
            <a:ext cx="650880" cy="65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rot="16200000">
            <a:off x="7343640" y="190440"/>
            <a:ext cx="395280" cy="395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902880" y="295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’’ (46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832520" y="2253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’’ (28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3840C-849B-4148-B440-00649F506F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3:02:48Z</dcterms:created>
  <dc:creator>J.E Campagne</dc:creator>
  <dc:description/>
  <dc:language>en-US</dc:language>
  <cp:lastModifiedBy>J.E Campagne</cp:lastModifiedBy>
  <dcterms:modified xsi:type="dcterms:W3CDTF">2005-10-27T12:36:26Z</dcterms:modified>
  <cp:revision>14</cp:revision>
  <dc:subject/>
  <dc:title>Diapositive 1</dc:title>
</cp:coreProperties>
</file>